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357C-2A6C-4960-B30E-24A18A2E8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623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A27A-2E52-44AB-AFC7-E121CB07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623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E068-E2F1-4B68-B895-7D2A6E112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623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F58B-813C-4112-B4D9-75CD14A9C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623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2514-D0BA-4792-A871-C3460D3B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623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887A-3F5D-434F-8004-E46B9A56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280" y="623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C6DF-8621-4F9E-990F-A52FD0D8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623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B710-5FC3-4E42-B696-2F6A3D40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9280" y="692280"/>
            <a:ext cx="822960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62CA-D536-43C5-90AF-A04F82A3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280" y="623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627E-33A7-4CE2-B840-DA6A78FC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280" y="623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7843-6FD6-4566-9FA0-99D00241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623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08F4-4305-4FB9-B303-4D8DFF14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75280" y="6524640"/>
            <a:ext cx="468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38AF-054D-47DB-89D8-D853E0408B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2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628640"/>
            <a:ext cx="91440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б изменениях в работе Федерального казначейств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соответствии с положениями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едерального закона от 08.05.2010 № 83-ФЗ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О внесении изменений в отдельные законодательные акты Российской Федерации в связи с совершенствованием правового положения государственных (муниципальных) учреждений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606560" y="6021360"/>
            <a:ext cx="45370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Руководитель Федерального казначей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Р. Е. Артюх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Times New Roman"/>
              </a:rPr>
              <a:t>Приказ Минфина России</a:t>
            </a: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«О порядке санкционирования расходов федеральных  бюджетных учреждений, источником финансового обеспечения которых являются субсидии, полученные в соответствии с абзацем вторым части 1 статьи 78.1 Бюджетного кодекса Российской Федерации» </a:t>
            </a:r>
            <a:r>
              <a:rPr b="1" lang="en-US" sz="1400" spc="-1" strike="noStrike">
                <a:solidFill>
                  <a:srgbClr val="6699ff"/>
                </a:solidFill>
                <a:latin typeface="Times New Roman"/>
              </a:rPr>
              <a:t>(размещен на сайте Минфина России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Times New Roman"/>
              </a:rPr>
              <a:t>Приказ Минфина России</a:t>
            </a: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«О порядке санкционирования расходов федеральных  бюджетных учреждений, источником финансового обеспечения которых являются субсидии, полученные в соответствии с пунктом 5 статьи 79 Бюджетного кодекса Российской Федерации» </a:t>
            </a:r>
            <a:r>
              <a:rPr b="1" lang="en-US" sz="1400" spc="-1" strike="noStrike">
                <a:solidFill>
                  <a:srgbClr val="6699ff"/>
                </a:solidFill>
                <a:latin typeface="Times New Roman"/>
              </a:rPr>
              <a:t>(будет разработан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Times New Roman"/>
              </a:rPr>
              <a:t>Приказ Минфина России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«О взыскании в соответствующий бюджет неиспользованных остатков субсидий, предоставленных из бюджетов бюджетной системы Российской Федерации государственным (муниципальным) учреждениям» </a:t>
            </a:r>
            <a:r>
              <a:rPr b="1" lang="en-US" sz="1400" spc="-1" strike="noStrike">
                <a:solidFill>
                  <a:srgbClr val="6699ff"/>
                </a:solidFill>
                <a:latin typeface="Times New Roman"/>
              </a:rPr>
              <a:t>(размещен на сайте Минфина России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Times New Roman"/>
              </a:rPr>
              <a:t>Приказ Федерального казначейства</a:t>
            </a: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«О порядке осуществления территориальными органами Федерального казначейства проведения кассовых выплат за счет средств бюджетных учреждений» </a:t>
            </a:r>
            <a:r>
              <a:rPr b="1" lang="en-US" sz="1400" spc="-1" strike="noStrike">
                <a:solidFill>
                  <a:srgbClr val="6699ff"/>
                </a:solidFill>
                <a:latin typeface="Times New Roman"/>
              </a:rPr>
              <a:t>(разрабатывается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Times New Roman"/>
              </a:rPr>
              <a:t>Приказ Федерального казначейства</a:t>
            </a: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«О порядке осуществления территориальными органами Федерального казначейства проведения кассовых выплат за счет средств автономных учреждений, лицевые счета которым открыты в территориальных органах Федерального казначейства»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6699ff"/>
                </a:solidFill>
                <a:latin typeface="Times New Roman"/>
              </a:rPr>
              <a:t>(размещен на сайте Минфина России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Times New Roman"/>
              </a:rPr>
              <a:t>Приказ Федерального казначейства</a:t>
            </a: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«О порядке учета и хранения исполнительных документов, предусматривающих обращение взыскания на средства бюджетных учреждений, лицевые счета которых открыты в территориальных органах Федерального казначейства, и иных документов, связанных с их исполнением» </a:t>
            </a:r>
            <a:r>
              <a:rPr b="1" lang="en-US" sz="1400" spc="-1" strike="noStrike">
                <a:solidFill>
                  <a:srgbClr val="6699ff"/>
                </a:solidFill>
                <a:latin typeface="Times New Roman"/>
              </a:rPr>
              <a:t>(разрабатывается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0" y="692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Наименования нормативно-правовых ак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27E6-237B-4BF5-9ABD-ACB492B5C0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7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0"/>
                            </p:stCondLst>
                            <p:childTnLst>
                              <p:par>
                                <p:cTn id="8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0"/>
                            </p:stCondLst>
                            <p:childTnLst>
                              <p:par>
                                <p:cTn id="8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Открытие счета в ЦБ РФ или кредитной организ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844640"/>
            <a:ext cx="914400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ля учета операций со средст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федеральных бюджетных и автономных учрежд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рган Федерального казначейства открыв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учреждении Центрального банка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счет на балансовом счете № 405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Счета организаций, находящихся в федеральной собственности. Финансовые организац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6522-926C-48FE-9E2D-7DE4A9C1DA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08000" y="692280"/>
            <a:ext cx="885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Times New Roman"/>
              </a:rPr>
              <a:t>Проведение кассовых выплат за счёт средст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Times New Roman"/>
              </a:rPr>
              <a:t>бюджетных учрежд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28520" y="1484280"/>
            <a:ext cx="9015480" cy="48276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6"/>
          <p:cNvSpPr/>
          <p:nvPr/>
        </p:nvSpPr>
        <p:spPr>
          <a:xfrm>
            <a:off x="7358040" y="412128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Бан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6000840" y="2928960"/>
            <a:ext cx="3143160" cy="107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Счет № 4050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«Счета организаций, находящихся федеральной собственности. Финансовые организации»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Номер слайда 6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3071880" y="2928960"/>
            <a:ext cx="2786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Times New Roman"/>
              </a:rPr>
              <a:t>- </a:t>
            </a:r>
            <a:r>
              <a:rPr b="1" lang="en-US" sz="1200" spc="-1" strike="noStrike">
                <a:solidFill>
                  <a:srgbClr val="ff5050"/>
                </a:solidFill>
                <a:latin typeface="Times New Roman"/>
              </a:rPr>
              <a:t>Учет по КОСГУ и кодам субси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8577200">
            <a:off x="67320" y="2071080"/>
            <a:ext cx="224316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99ff"/>
                </a:solidFill>
                <a:latin typeface="Book Antiqua"/>
              </a:rPr>
              <a:t>Сведения об операциях с субсидиями, предоставленными Г(М)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99ff"/>
                </a:solidFill>
                <a:latin typeface="Book Antiqua"/>
              </a:rPr>
              <a:t>+</a:t>
            </a:r>
            <a:r>
              <a:rPr b="0" i="1" lang="en-US" sz="12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2B69-EA03-4992-8E5C-A89E06A488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08000" y="692280"/>
            <a:ext cx="885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Times New Roman"/>
              </a:rPr>
              <a:t>Проведение кассовых выплат за счёт средст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Times New Roman"/>
              </a:rPr>
              <a:t>автономных учрежд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7358040" y="412128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Бан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63360" y="1500120"/>
            <a:ext cx="9015480" cy="48402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6"/>
          <p:cNvSpPr/>
          <p:nvPr/>
        </p:nvSpPr>
        <p:spPr>
          <a:xfrm>
            <a:off x="7358040" y="412128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Бан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3071880" y="2928960"/>
            <a:ext cx="278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Times New Roman"/>
              </a:rPr>
              <a:t>- Учет по КОСГУ НЕ веде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6000840" y="2928960"/>
            <a:ext cx="3143160" cy="107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Счет № 40501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«Счета организаций, находящихся федеральной собственности. Финансовые организации»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Номер слайда 6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3A30-A5AA-49D4-B56B-24D4BD3D64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Обращение взыскания на средства бюджетных учреждени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250920" y="1412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5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Приказ Федерального казначейства</a:t>
            </a:r>
            <a:r>
              <a:rPr b="1" lang="en-US" sz="2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О порядке учета и хранения исполнительных документов, предусматривающих обращение взыскания на средства бюджетных учреждений, лицевые счета которых открыты в территориальных органах Федерального казначейства, и иных документов, связанных с их исполнением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6699ff"/>
                </a:solidFill>
                <a:latin typeface="Times New Roman"/>
              </a:rPr>
              <a:t>(разрабатываетс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692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Наименование нормативно-правового ак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DF85-EC7E-42A0-A454-927F5B9423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108000" y="785880"/>
            <a:ext cx="903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c80"/>
                </a:solidFill>
                <a:latin typeface="Times New Roman"/>
              </a:rPr>
              <a:t>Особенности обращения взыскания на средства бюджетных учреждений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68360" y="1557360"/>
          <a:ext cx="8136000" cy="488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8136000" cy="48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15B0-FFCA-46DE-BC4E-379C73667C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Регистрация пользователей и ведение совместно с Минэкономразвития России официального сайта Российской Федерации в сети «Интернет» для размещения информации о размещении заказов на поставку товаров, выполнение работ, оказание услуг для государственных и муниципальных нуж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50920" y="1412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Приказ Министерства экономического развития Российской Федерации и Федерального казначейства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О</a:t>
            </a: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рядке регистрации пользователей и пользования официальным сайтом Российской Федерации в сети «Интернет» для размещения информации о размещении заказов на поставки товаров, выполнение работ, оказание услуг для государственных и муниципальных нуж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6699ff"/>
                </a:solidFill>
                <a:latin typeface="Times New Roman"/>
              </a:rPr>
              <a:t>(разрабатывается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692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Наименование нормативно-правового ак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EB4C-2389-4414-9367-AAEDF0F4D6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te4"/>
          <p:cNvSpPr/>
          <p:nvPr/>
        </p:nvSpPr>
        <p:spPr>
          <a:xfrm>
            <a:off x="617400" y="5691240"/>
            <a:ext cx="8267760" cy="969840"/>
          </a:xfrm>
          <a:prstGeom prst="rec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te4"/>
          <p:cNvSpPr/>
          <p:nvPr/>
        </p:nvSpPr>
        <p:spPr>
          <a:xfrm>
            <a:off x="4970520" y="5757840"/>
            <a:ext cx="395928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marL="177840" indent="-177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ГУП, МУП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Субъекты естественных монополи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Организации с долей государственного участ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Иные юридические лиц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Взаимодействие клиентов с ОО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rame3"/>
          <p:cNvSpPr/>
          <p:nvPr/>
        </p:nvSpPr>
        <p:spPr>
          <a:xfrm>
            <a:off x="2112840" y="1173240"/>
            <a:ext cx="6772320" cy="2547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Федеральное казначей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ame3"/>
          <p:cNvSpPr/>
          <p:nvPr/>
        </p:nvSpPr>
        <p:spPr>
          <a:xfrm>
            <a:off x="582480" y="4319640"/>
            <a:ext cx="8298000" cy="1214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Полномоч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организ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te4"/>
          <p:cNvSpPr/>
          <p:nvPr/>
        </p:nvSpPr>
        <p:spPr>
          <a:xfrm>
            <a:off x="2495520" y="1531800"/>
            <a:ext cx="1811520" cy="2040120"/>
          </a:xfrm>
          <a:custGeom>
            <a:avLst/>
            <a:gdLst>
              <a:gd name="textAreaLeft" fmla="*/ 88200 w 1811520"/>
              <a:gd name="textAreaRight" fmla="*/ 1723320 w 1811520"/>
              <a:gd name="textAreaTop" fmla="*/ 88200 h 2040120"/>
              <a:gd name="textAreaBottom" fmla="*/ 1951920 h 2040120"/>
            </a:gdLst>
            <a:ahLst/>
            <a:rect l="textAreaLeft" t="textAreaTop" r="textAreaRight" b="textAreaBottom"/>
            <a:pathLst>
              <a:path w="21600" h="24325">
                <a:moveTo>
                  <a:pt x="3600" y="0"/>
                </a:moveTo>
                <a:arcTo wR="3600" hR="3600" stAng="16200000" swAng="-5400000"/>
                <a:lnTo>
                  <a:pt x="0" y="20725"/>
                </a:lnTo>
                <a:arcTo wR="3600" hR="3600" stAng="10800000" swAng="-5400000"/>
                <a:lnTo>
                  <a:pt x="18000" y="243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b" anchorCtr="1">
            <a:noAutofit/>
          </a:bodyPr>
          <a:p>
            <a:pPr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te4"/>
          <p:cNvSpPr/>
          <p:nvPr/>
        </p:nvSpPr>
        <p:spPr>
          <a:xfrm>
            <a:off x="5581800" y="1519200"/>
            <a:ext cx="3112920" cy="20541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t">
            <a:noAutofit/>
          </a:bodyPr>
          <a:p>
            <a:pPr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te4"/>
          <p:cNvSpPr/>
          <p:nvPr/>
        </p:nvSpPr>
        <p:spPr>
          <a:xfrm>
            <a:off x="1987560" y="4560840"/>
            <a:ext cx="995400" cy="719280"/>
          </a:xfrm>
          <a:prstGeom prst="rect">
            <a:avLst/>
          </a:prstGeom>
          <a:solidFill>
            <a:srgbClr val="ffff99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Заказчи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te4"/>
          <p:cNvSpPr/>
          <p:nvPr/>
        </p:nvSpPr>
        <p:spPr>
          <a:xfrm>
            <a:off x="3868560" y="5691240"/>
            <a:ext cx="1251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te4"/>
          <p:cNvSpPr/>
          <p:nvPr/>
        </p:nvSpPr>
        <p:spPr>
          <a:xfrm>
            <a:off x="2046240" y="5691240"/>
            <a:ext cx="1251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te4"/>
          <p:cNvSpPr/>
          <p:nvPr/>
        </p:nvSpPr>
        <p:spPr>
          <a:xfrm>
            <a:off x="5681520" y="5691240"/>
            <a:ext cx="1251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te4"/>
          <p:cNvSpPr/>
          <p:nvPr/>
        </p:nvSpPr>
        <p:spPr>
          <a:xfrm>
            <a:off x="7494480" y="5691240"/>
            <a:ext cx="1251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104" idx="0"/>
            <a:endCxn id="105" idx="2"/>
          </p:cNvCxnSpPr>
          <p:nvPr/>
        </p:nvCxnSpPr>
        <p:spPr>
          <a:xfrm flipV="1">
            <a:off x="3669840" y="3572640"/>
            <a:ext cx="1080" cy="89604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plate4"/>
          <p:cNvSpPr/>
          <p:nvPr/>
        </p:nvSpPr>
        <p:spPr>
          <a:xfrm>
            <a:off x="706320" y="5681520"/>
            <a:ext cx="4137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marL="177840" indent="-177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Органы государственной власти (местного самоуправления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Органы управления ГВБФ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Бюджетные учрежден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27520" y="2808360"/>
            <a:ext cx="30736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te4"/>
          <p:cNvSpPr/>
          <p:nvPr/>
        </p:nvSpPr>
        <p:spPr>
          <a:xfrm>
            <a:off x="7908840" y="3355920"/>
            <a:ext cx="6588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УФК/ОФ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te4"/>
          <p:cNvSpPr/>
          <p:nvPr/>
        </p:nvSpPr>
        <p:spPr>
          <a:xfrm>
            <a:off x="8158320" y="1917720"/>
            <a:ext cx="698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te4"/>
          <p:cNvSpPr/>
          <p:nvPr/>
        </p:nvSpPr>
        <p:spPr>
          <a:xfrm>
            <a:off x="7961400" y="2522520"/>
            <a:ext cx="249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7899120" y="2030040"/>
            <a:ext cx="36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7829280" y="2874600"/>
            <a:ext cx="36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te4"/>
          <p:cNvSpPr/>
          <p:nvPr/>
        </p:nvSpPr>
        <p:spPr>
          <a:xfrm>
            <a:off x="2577960" y="3417840"/>
            <a:ext cx="61308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te4"/>
          <p:cNvSpPr/>
          <p:nvPr/>
        </p:nvSpPr>
        <p:spPr>
          <a:xfrm>
            <a:off x="3894120" y="4473720"/>
            <a:ext cx="544680" cy="144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te4"/>
          <p:cNvSpPr/>
          <p:nvPr/>
        </p:nvSpPr>
        <p:spPr>
          <a:xfrm>
            <a:off x="7943760" y="1555920"/>
            <a:ext cx="658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ЦА Ф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7" idx="1"/>
            <a:endCxn id="118" idx="3"/>
          </p:cNvCxnSpPr>
          <p:nvPr/>
        </p:nvCxnSpPr>
        <p:spPr>
          <a:xfrm flipH="1">
            <a:off x="1181880" y="2211120"/>
            <a:ext cx="1315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19" name="plate4"/>
          <p:cNvSpPr/>
          <p:nvPr/>
        </p:nvSpPr>
        <p:spPr>
          <a:xfrm>
            <a:off x="2496960" y="2781360"/>
            <a:ext cx="61308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te4"/>
          <p:cNvSpPr/>
          <p:nvPr/>
        </p:nvSpPr>
        <p:spPr>
          <a:xfrm>
            <a:off x="2496960" y="2133720"/>
            <a:ext cx="61308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50520" y="1196640"/>
            <a:ext cx="531720" cy="2592360"/>
            <a:chOff x="650520" y="1196640"/>
            <a:chExt cx="531720" cy="2592360"/>
          </a:xfrm>
        </p:grpSpPr>
        <p:sp>
          <p:nvSpPr>
            <p:cNvPr id="121" name="plate4"/>
            <p:cNvSpPr/>
            <p:nvPr/>
          </p:nvSpPr>
          <p:spPr>
            <a:xfrm rot="10800000">
              <a:off x="650520" y="1196640"/>
              <a:ext cx="531720" cy="2592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82800" bIns="46800" anchor="t" anchorCtr="1" vert="eaVert">
              <a:no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Участники закупо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plate4"/>
            <p:cNvSpPr/>
            <p:nvPr/>
          </p:nvSpPr>
          <p:spPr>
            <a:xfrm>
              <a:off x="774000" y="2133720"/>
              <a:ext cx="408240" cy="1555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plate4"/>
            <p:cNvSpPr/>
            <p:nvPr/>
          </p:nvSpPr>
          <p:spPr>
            <a:xfrm>
              <a:off x="774000" y="2781360"/>
              <a:ext cx="408240" cy="1555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19" idx="1"/>
            <a:endCxn id="122" idx="3"/>
          </p:cNvCxnSpPr>
          <p:nvPr/>
        </p:nvCxnSpPr>
        <p:spPr>
          <a:xfrm flipH="1">
            <a:off x="1181880" y="2858760"/>
            <a:ext cx="1315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24" name=""/>
          <p:cNvSpPr/>
          <p:nvPr/>
        </p:nvSpPr>
        <p:spPr>
          <a:xfrm rot="10800000">
            <a:off x="7829280" y="2207880"/>
            <a:ext cx="36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te4"/>
          <p:cNvSpPr/>
          <p:nvPr/>
        </p:nvSpPr>
        <p:spPr>
          <a:xfrm>
            <a:off x="5640480" y="3808440"/>
            <a:ext cx="1135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Сведения об организации, подтверждающие документ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te4"/>
          <p:cNvSpPr/>
          <p:nvPr/>
        </p:nvSpPr>
        <p:spPr>
          <a:xfrm rot="5400000">
            <a:off x="3936600" y="2490480"/>
            <a:ext cx="590400" cy="133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te4"/>
          <p:cNvSpPr/>
          <p:nvPr/>
        </p:nvSpPr>
        <p:spPr>
          <a:xfrm>
            <a:off x="1247760" y="2349360"/>
            <a:ext cx="903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Получение информации по закупкам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te4"/>
          <p:cNvSpPr/>
          <p:nvPr/>
        </p:nvSpPr>
        <p:spPr>
          <a:xfrm>
            <a:off x="2577960" y="2314440"/>
            <a:ext cx="1595520" cy="444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Официальный сайт Российской Федерации в сети «Интернет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te4"/>
          <p:cNvSpPr/>
          <p:nvPr/>
        </p:nvSpPr>
        <p:spPr>
          <a:xfrm>
            <a:off x="3081240" y="3417840"/>
            <a:ext cx="61272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te4"/>
          <p:cNvSpPr/>
          <p:nvPr/>
        </p:nvSpPr>
        <p:spPr>
          <a:xfrm>
            <a:off x="2577960" y="4570560"/>
            <a:ext cx="61308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te4"/>
          <p:cNvSpPr/>
          <p:nvPr/>
        </p:nvSpPr>
        <p:spPr>
          <a:xfrm>
            <a:off x="3081240" y="4468680"/>
            <a:ext cx="612720" cy="155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te4"/>
          <p:cNvSpPr/>
          <p:nvPr/>
        </p:nvSpPr>
        <p:spPr>
          <a:xfrm>
            <a:off x="3851280" y="4076640"/>
            <a:ext cx="703080" cy="160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сертифика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te4"/>
          <p:cNvSpPr/>
          <p:nvPr/>
        </p:nvSpPr>
        <p:spPr>
          <a:xfrm>
            <a:off x="8143920" y="4475160"/>
            <a:ext cx="61272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te4"/>
          <p:cNvSpPr/>
          <p:nvPr/>
        </p:nvSpPr>
        <p:spPr>
          <a:xfrm rot="5400000">
            <a:off x="6797160" y="2020680"/>
            <a:ext cx="663840" cy="142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/>
          <p:nvPr/>
        </p:nvCxnSpPr>
        <p:spPr>
          <a:xfrm flipV="1">
            <a:off x="7740360" y="3573000"/>
            <a:ext cx="1080" cy="766080"/>
          </a:xfrm>
          <a:prstGeom prst="bentConnector2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4" name="plate4"/>
          <p:cNvSpPr/>
          <p:nvPr/>
        </p:nvSpPr>
        <p:spPr>
          <a:xfrm>
            <a:off x="7829640" y="4076640"/>
            <a:ext cx="703080" cy="16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сертифика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te4"/>
          <p:cNvSpPr/>
          <p:nvPr/>
        </p:nvSpPr>
        <p:spPr>
          <a:xfrm>
            <a:off x="6310440" y="4475160"/>
            <a:ext cx="61272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 flipH="1" flipV="1" rot="5400000">
            <a:off x="5904360" y="3391200"/>
            <a:ext cx="1801080" cy="216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plate4"/>
          <p:cNvSpPr/>
          <p:nvPr/>
        </p:nvSpPr>
        <p:spPr>
          <a:xfrm>
            <a:off x="7058160" y="4325760"/>
            <a:ext cx="544320" cy="73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9800" bIns="19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/>
          <p:nvPr/>
        </p:nvCxnSpPr>
        <p:spPr>
          <a:xfrm flipV="1" rot="10800000">
            <a:off x="4355280" y="2203920"/>
            <a:ext cx="2561400" cy="2520"/>
          </a:xfrm>
          <a:prstGeom prst="bentConnector3">
            <a:avLst>
              <a:gd name="adj1" fmla="val 5002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plate4"/>
          <p:cNvSpPr/>
          <p:nvPr/>
        </p:nvSpPr>
        <p:spPr>
          <a:xfrm rot="5400000">
            <a:off x="3940200" y="2165400"/>
            <a:ext cx="590400" cy="133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te4"/>
          <p:cNvSpPr/>
          <p:nvPr/>
        </p:nvSpPr>
        <p:spPr>
          <a:xfrm>
            <a:off x="6372360" y="3068640"/>
            <a:ext cx="61272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te4"/>
          <p:cNvSpPr/>
          <p:nvPr/>
        </p:nvSpPr>
        <p:spPr>
          <a:xfrm>
            <a:off x="6292800" y="1825560"/>
            <a:ext cx="1951200" cy="6336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Сводный перечень заказчик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te4"/>
          <p:cNvSpPr/>
          <p:nvPr/>
        </p:nvSpPr>
        <p:spPr>
          <a:xfrm>
            <a:off x="6975360" y="2386080"/>
            <a:ext cx="711360" cy="73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9800" bIns="19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667560" y="2093760"/>
            <a:ext cx="12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te4"/>
          <p:cNvSpPr/>
          <p:nvPr/>
        </p:nvSpPr>
        <p:spPr>
          <a:xfrm>
            <a:off x="5504040" y="3490920"/>
            <a:ext cx="544320" cy="73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9800" bIns="19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te4"/>
          <p:cNvSpPr/>
          <p:nvPr/>
        </p:nvSpPr>
        <p:spPr>
          <a:xfrm rot="5400000">
            <a:off x="5329800" y="1815120"/>
            <a:ext cx="590760" cy="6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5120" bIns="1512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te4"/>
          <p:cNvSpPr/>
          <p:nvPr/>
        </p:nvSpPr>
        <p:spPr>
          <a:xfrm>
            <a:off x="5438880" y="4560840"/>
            <a:ext cx="996840" cy="719280"/>
          </a:xfrm>
          <a:prstGeom prst="rect">
            <a:avLst/>
          </a:prstGeom>
          <a:solidFill>
            <a:srgbClr val="ffff99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онтролирую-щий орга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te4"/>
          <p:cNvSpPr/>
          <p:nvPr/>
        </p:nvSpPr>
        <p:spPr>
          <a:xfrm>
            <a:off x="6586560" y="4560840"/>
            <a:ext cx="996840" cy="719280"/>
          </a:xfrm>
          <a:prstGeom prst="rect">
            <a:avLst/>
          </a:prstGeom>
          <a:solidFill>
            <a:srgbClr val="ffff99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Финансовый орга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te4"/>
          <p:cNvSpPr/>
          <p:nvPr/>
        </p:nvSpPr>
        <p:spPr>
          <a:xfrm>
            <a:off x="7710480" y="4560840"/>
            <a:ext cx="996840" cy="719280"/>
          </a:xfrm>
          <a:prstGeom prst="rect">
            <a:avLst/>
          </a:prstGeom>
          <a:solidFill>
            <a:srgbClr val="ffff99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Оператор ОО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Оператор Э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te4"/>
          <p:cNvSpPr/>
          <p:nvPr/>
        </p:nvSpPr>
        <p:spPr>
          <a:xfrm>
            <a:off x="2638440" y="3735360"/>
            <a:ext cx="7318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Информация по закупкам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te4"/>
          <p:cNvSpPr/>
          <p:nvPr/>
        </p:nvSpPr>
        <p:spPr>
          <a:xfrm>
            <a:off x="5275440" y="4491000"/>
            <a:ext cx="544320" cy="73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9800" bIns="19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te4"/>
          <p:cNvSpPr/>
          <p:nvPr/>
        </p:nvSpPr>
        <p:spPr>
          <a:xfrm rot="5400000">
            <a:off x="3949200" y="1779480"/>
            <a:ext cx="590760" cy="133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te4"/>
          <p:cNvSpPr/>
          <p:nvPr/>
        </p:nvSpPr>
        <p:spPr>
          <a:xfrm>
            <a:off x="4186080" y="1903320"/>
            <a:ext cx="1500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Информация об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организациях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te4"/>
          <p:cNvSpPr/>
          <p:nvPr/>
        </p:nvSpPr>
        <p:spPr>
          <a:xfrm>
            <a:off x="4295880" y="4560840"/>
            <a:ext cx="996840" cy="719280"/>
          </a:xfrm>
          <a:prstGeom prst="rect">
            <a:avLst/>
          </a:prstGeom>
          <a:solidFill>
            <a:srgbClr val="ffff99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Специализиро-ванная организац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te4"/>
          <p:cNvSpPr/>
          <p:nvPr/>
        </p:nvSpPr>
        <p:spPr>
          <a:xfrm>
            <a:off x="3135240" y="4560840"/>
            <a:ext cx="997200" cy="719280"/>
          </a:xfrm>
          <a:prstGeom prst="rect">
            <a:avLst/>
          </a:prstGeom>
          <a:solidFill>
            <a:srgbClr val="ffff99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Уполномочен-ный орга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te4"/>
          <p:cNvSpPr/>
          <p:nvPr/>
        </p:nvSpPr>
        <p:spPr>
          <a:xfrm>
            <a:off x="1898640" y="4471920"/>
            <a:ext cx="3456000" cy="960480"/>
          </a:xfrm>
          <a:prstGeom prst="rect">
            <a:avLst/>
          </a:prstGeom>
          <a:noFill/>
          <a:ln w="1908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te4"/>
          <p:cNvSpPr/>
          <p:nvPr/>
        </p:nvSpPr>
        <p:spPr>
          <a:xfrm>
            <a:off x="7491240" y="4338720"/>
            <a:ext cx="544680" cy="73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9800" bIns="19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te4"/>
          <p:cNvSpPr/>
          <p:nvPr/>
        </p:nvSpPr>
        <p:spPr>
          <a:xfrm>
            <a:off x="7585200" y="4592520"/>
            <a:ext cx="544320" cy="73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9800" bIns="19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te4"/>
          <p:cNvSpPr/>
          <p:nvPr/>
        </p:nvSpPr>
        <p:spPr>
          <a:xfrm>
            <a:off x="7491240" y="3500280"/>
            <a:ext cx="544680" cy="73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9800" bIns="19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te4"/>
          <p:cNvSpPr/>
          <p:nvPr/>
        </p:nvSpPr>
        <p:spPr>
          <a:xfrm>
            <a:off x="2179800" y="5691240"/>
            <a:ext cx="61092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te4"/>
          <p:cNvSpPr/>
          <p:nvPr/>
        </p:nvSpPr>
        <p:spPr>
          <a:xfrm>
            <a:off x="3316320" y="5691240"/>
            <a:ext cx="61272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te4"/>
          <p:cNvSpPr/>
          <p:nvPr/>
        </p:nvSpPr>
        <p:spPr>
          <a:xfrm>
            <a:off x="4465800" y="5678640"/>
            <a:ext cx="61092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te4"/>
          <p:cNvSpPr/>
          <p:nvPr/>
        </p:nvSpPr>
        <p:spPr>
          <a:xfrm>
            <a:off x="5648400" y="5691240"/>
            <a:ext cx="61272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te4"/>
          <p:cNvSpPr/>
          <p:nvPr/>
        </p:nvSpPr>
        <p:spPr>
          <a:xfrm>
            <a:off x="6877080" y="5661000"/>
            <a:ext cx="61272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te4"/>
          <p:cNvSpPr/>
          <p:nvPr/>
        </p:nvSpPr>
        <p:spPr>
          <a:xfrm>
            <a:off x="7934400" y="5678640"/>
            <a:ext cx="61272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/>
          <p:nvPr/>
        </p:nvCxnSpPr>
        <p:spPr>
          <a:xfrm flipH="1" flipV="1" rot="5400000">
            <a:off x="6086880" y="3424680"/>
            <a:ext cx="1867680" cy="2160"/>
          </a:xfrm>
          <a:prstGeom prst="bentConnector3">
            <a:avLst>
              <a:gd name="adj1" fmla="val 49990"/>
            </a:avLst>
          </a:prstGeom>
          <a:ln w="126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66" name="plate4"/>
          <p:cNvSpPr/>
          <p:nvPr/>
        </p:nvSpPr>
        <p:spPr>
          <a:xfrm>
            <a:off x="7023240" y="3811680"/>
            <a:ext cx="6793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Протоко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411280" y="53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564000" y="53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716360" y="53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5867280" y="53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093080" y="53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8244000" y="53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C55F-AE38-4288-B991-717AFE9125F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Times New Roman"/>
              </a:rPr>
              <a:t>Открытие и ведение лицевых счето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бюджетных и автономных учрежде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Times New Roman"/>
              </a:rPr>
              <a:t>Проведение кассовых выпла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за счёт средств бюджетных и автономных учрежде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Times New Roman"/>
              </a:rPr>
              <a:t>Обращение взыскан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на средства бюджетных учрежде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Times New Roman"/>
              </a:rPr>
              <a:t>Регистрация пользователе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и ведение совместно с Минэкономразвития России официального сайта РФ в сети «Интернет» для размещения информации о размещении заказов на поставку товаров, выполнение работ, оказание услуг для государственных и муниципальных нуж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Times New Roman"/>
              </a:rPr>
              <a:t>Размещение на сайт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сети «Интернет» информации о деятельности государственных и муниципальных учрежде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692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Изменения в работе Федерального казначей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1FE5-07B7-4FBC-80F1-6EB132E0B3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0"/>
                            </p:stCondLst>
                            <p:childTnLst>
                              <p:par>
                                <p:cTn id="2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rame3"/>
          <p:cNvSpPr/>
          <p:nvPr/>
        </p:nvSpPr>
        <p:spPr>
          <a:xfrm>
            <a:off x="324000" y="1173240"/>
            <a:ext cx="8424720" cy="3195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Федеральное казначей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5960" y="1569960"/>
            <a:ext cx="5992920" cy="2683080"/>
          </a:xfrm>
          <a:prstGeom prst="rect">
            <a:avLst/>
          </a:prstGeom>
          <a:solidFill>
            <a:srgbClr val="ddddd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Регистрация участников бюджетного процесса федерального уров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te4"/>
          <p:cNvSpPr/>
          <p:nvPr/>
        </p:nvSpPr>
        <p:spPr>
          <a:xfrm>
            <a:off x="395280" y="5380200"/>
            <a:ext cx="6743880" cy="1001520"/>
          </a:xfrm>
          <a:prstGeom prst="rec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te4"/>
          <p:cNvSpPr/>
          <p:nvPr/>
        </p:nvSpPr>
        <p:spPr>
          <a:xfrm>
            <a:off x="4199040" y="5369040"/>
            <a:ext cx="285912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marL="177840" indent="-17784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te4"/>
          <p:cNvSpPr/>
          <p:nvPr/>
        </p:nvSpPr>
        <p:spPr>
          <a:xfrm>
            <a:off x="1403280" y="5369040"/>
            <a:ext cx="279576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marL="177840" indent="-177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Участник бюджетного процесса федерального уров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te4"/>
          <p:cNvSpPr/>
          <p:nvPr/>
        </p:nvSpPr>
        <p:spPr>
          <a:xfrm>
            <a:off x="3021120" y="5380200"/>
            <a:ext cx="4381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te4"/>
          <p:cNvSpPr/>
          <p:nvPr/>
        </p:nvSpPr>
        <p:spPr>
          <a:xfrm>
            <a:off x="4581360" y="5380200"/>
            <a:ext cx="14288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"/>
          <p:cNvCxnSpPr/>
          <p:nvPr/>
        </p:nvCxnSpPr>
        <p:spPr>
          <a:xfrm flipV="1">
            <a:off x="3850920" y="4005000"/>
            <a:ext cx="1080" cy="1405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82" name=""/>
          <p:cNvCxnSpPr/>
          <p:nvPr/>
        </p:nvCxnSpPr>
        <p:spPr>
          <a:xfrm>
            <a:off x="5292360" y="3357720"/>
            <a:ext cx="3960" cy="2015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83" name="plate4"/>
          <p:cNvSpPr/>
          <p:nvPr/>
        </p:nvSpPr>
        <p:spPr>
          <a:xfrm>
            <a:off x="4638600" y="5380200"/>
            <a:ext cx="66528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te4"/>
          <p:cNvSpPr/>
          <p:nvPr/>
        </p:nvSpPr>
        <p:spPr>
          <a:xfrm>
            <a:off x="6924600" y="5369040"/>
            <a:ext cx="6516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/>
          <p:nvPr/>
        </p:nvCxnSpPr>
        <p:spPr>
          <a:xfrm flipV="1">
            <a:off x="7020000" y="4220280"/>
            <a:ext cx="2160" cy="1166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86" name="frame3"/>
          <p:cNvSpPr/>
          <p:nvPr/>
        </p:nvSpPr>
        <p:spPr>
          <a:xfrm>
            <a:off x="6948360" y="1557360"/>
            <a:ext cx="1527480" cy="2670120"/>
          </a:xfrm>
          <a:prstGeom prst="rect">
            <a:avLst/>
          </a:prstGeom>
          <a:solidFill>
            <a:srgbClr val="ffff99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Официаль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айт Российск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Федерации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ети «Интернет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te4"/>
          <p:cNvSpPr/>
          <p:nvPr/>
        </p:nvSpPr>
        <p:spPr>
          <a:xfrm>
            <a:off x="6924600" y="4022640"/>
            <a:ext cx="6516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te4"/>
          <p:cNvSpPr/>
          <p:nvPr/>
        </p:nvSpPr>
        <p:spPr>
          <a:xfrm>
            <a:off x="6869160" y="2101680"/>
            <a:ext cx="96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/>
          <p:nvPr/>
        </p:nvCxnSpPr>
        <p:spPr>
          <a:xfrm>
            <a:off x="5940360" y="2133360"/>
            <a:ext cx="1015200" cy="1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90" name=""/>
          <p:cNvSpPr/>
          <p:nvPr/>
        </p:nvSpPr>
        <p:spPr>
          <a:xfrm>
            <a:off x="5325840" y="4532400"/>
            <a:ext cx="78804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4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Получение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сертификат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967800" y="4532400"/>
            <a:ext cx="85824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5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Регистрация 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на ОО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5920" y="394020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УФК/ОФ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867280" y="1700280"/>
            <a:ext cx="9763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4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Размещение 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данных об организаци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26120" y="163656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ЦА Ф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te4"/>
          <p:cNvSpPr/>
          <p:nvPr/>
        </p:nvSpPr>
        <p:spPr>
          <a:xfrm>
            <a:off x="3203640" y="3213000"/>
            <a:ext cx="1217520" cy="755640"/>
          </a:xfrm>
          <a:prstGeom prst="rect">
            <a:avLst/>
          </a:prstGeom>
          <a:solidFill>
            <a:srgbClr val="99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Прием и проверка документ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te4"/>
          <p:cNvSpPr/>
          <p:nvPr/>
        </p:nvSpPr>
        <p:spPr>
          <a:xfrm>
            <a:off x="4651200" y="1738440"/>
            <a:ext cx="1283040" cy="755640"/>
          </a:xfrm>
          <a:prstGeom prst="rect">
            <a:avLst/>
          </a:prstGeom>
          <a:solidFill>
            <a:srgbClr val="99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Регистрация организа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te4"/>
          <p:cNvSpPr/>
          <p:nvPr/>
        </p:nvSpPr>
        <p:spPr>
          <a:xfrm>
            <a:off x="5438880" y="4998960"/>
            <a:ext cx="628560" cy="160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сертифика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te4"/>
          <p:cNvSpPr/>
          <p:nvPr/>
        </p:nvSpPr>
        <p:spPr>
          <a:xfrm>
            <a:off x="7067520" y="4998960"/>
            <a:ext cx="630360" cy="160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сертифика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te4"/>
          <p:cNvSpPr/>
          <p:nvPr/>
        </p:nvSpPr>
        <p:spPr>
          <a:xfrm rot="5400000">
            <a:off x="5565600" y="2228760"/>
            <a:ext cx="5256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te4"/>
          <p:cNvSpPr/>
          <p:nvPr/>
        </p:nvSpPr>
        <p:spPr>
          <a:xfrm rot="5400000">
            <a:off x="5558040" y="2736000"/>
            <a:ext cx="52560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/>
          <p:nvPr/>
        </p:nvCxnSpPr>
        <p:spPr>
          <a:xfrm flipH="1">
            <a:off x="5940000" y="2276640"/>
            <a:ext cx="8640" cy="506880"/>
          </a:xfrm>
          <a:prstGeom prst="bentConnector3">
            <a:avLst>
              <a:gd name="adj1" fmla="val -1956521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02" name=""/>
          <p:cNvSpPr/>
          <p:nvPr/>
        </p:nvSpPr>
        <p:spPr>
          <a:xfrm>
            <a:off x="6084720" y="2205000"/>
            <a:ext cx="9716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4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Подтверждение полномочий для выдачи сертификат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te4"/>
          <p:cNvSpPr/>
          <p:nvPr/>
        </p:nvSpPr>
        <p:spPr>
          <a:xfrm>
            <a:off x="3813120" y="3757680"/>
            <a:ext cx="4381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125800" y="4481640"/>
            <a:ext cx="15397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1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Представление 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документов для регистрации организации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Заявки на получение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сертификат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te4"/>
          <p:cNvSpPr/>
          <p:nvPr/>
        </p:nvSpPr>
        <p:spPr>
          <a:xfrm>
            <a:off x="2679840" y="5408640"/>
            <a:ext cx="1569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te4"/>
          <p:cNvSpPr/>
          <p:nvPr/>
        </p:nvSpPr>
        <p:spPr>
          <a:xfrm>
            <a:off x="5837400" y="2101680"/>
            <a:ext cx="96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2928960"/>
            <a:ext cx="599940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17960" y="1765440"/>
            <a:ext cx="1666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17960" y="3708360"/>
            <a:ext cx="1666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117960" y="2019240"/>
            <a:ext cx="1666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117960" y="2273400"/>
            <a:ext cx="1666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17960" y="3505320"/>
            <a:ext cx="1666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38360" y="2197080"/>
            <a:ext cx="1652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46440" y="3505320"/>
            <a:ext cx="1648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"/>
          <p:cNvCxnSpPr/>
          <p:nvPr/>
        </p:nvCxnSpPr>
        <p:spPr>
          <a:xfrm>
            <a:off x="1979280" y="3573000"/>
            <a:ext cx="1199160" cy="1080"/>
          </a:xfrm>
          <a:prstGeom prst="bentConnector2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216" name="plate4"/>
          <p:cNvSpPr/>
          <p:nvPr/>
        </p:nvSpPr>
        <p:spPr>
          <a:xfrm>
            <a:off x="4651200" y="2610000"/>
            <a:ext cx="1283040" cy="75564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Удостоверяющий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центр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195" idx="0"/>
            <a:endCxn id="196" idx="1"/>
          </p:cNvCxnSpPr>
          <p:nvPr/>
        </p:nvCxnSpPr>
        <p:spPr>
          <a:xfrm flipH="1" flipV="1" rot="5400000">
            <a:off x="3683520" y="2244960"/>
            <a:ext cx="1097640" cy="8388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18" name=""/>
          <p:cNvSpPr/>
          <p:nvPr/>
        </p:nvSpPr>
        <p:spPr>
          <a:xfrm>
            <a:off x="2610000" y="2152800"/>
            <a:ext cx="1109520" cy="274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3</a:t>
            </a:r>
            <a:r>
              <a:rPr b="1" lang="en-US" sz="900" spc="-1" strike="noStrike">
                <a:solidFill>
                  <a:srgbClr val="009999"/>
                </a:solidFill>
                <a:latin typeface="Times New Roman"/>
              </a:rPr>
              <a:t>.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Сведения об организаци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te4"/>
          <p:cNvSpPr/>
          <p:nvPr/>
        </p:nvSpPr>
        <p:spPr>
          <a:xfrm>
            <a:off x="7227720" y="5380200"/>
            <a:ext cx="1470240" cy="1001520"/>
          </a:xfrm>
          <a:prstGeom prst="rect">
            <a:avLst/>
          </a:prstGeom>
          <a:solidFill>
            <a:srgbClr val="ffcc99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marL="177840" indent="-177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Вышестоящая орга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Уполномоченный орг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te4"/>
          <p:cNvSpPr/>
          <p:nvPr/>
        </p:nvSpPr>
        <p:spPr>
          <a:xfrm>
            <a:off x="7929720" y="4022640"/>
            <a:ext cx="6480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"/>
          <p:cNvCxnSpPr/>
          <p:nvPr/>
        </p:nvCxnSpPr>
        <p:spPr>
          <a:xfrm flipV="1">
            <a:off x="7956360" y="4220640"/>
            <a:ext cx="1080" cy="115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lg" type="triangle" w="lg"/>
          </a:ln>
        </p:spPr>
      </p:cxnSp>
      <p:sp>
        <p:nvSpPr>
          <p:cNvPr id="222" name=""/>
          <p:cNvSpPr/>
          <p:nvPr/>
        </p:nvSpPr>
        <p:spPr>
          <a:xfrm>
            <a:off x="7996320" y="4530600"/>
            <a:ext cx="866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6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Получение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информаци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о закупках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te4"/>
          <p:cNvSpPr/>
          <p:nvPr/>
        </p:nvSpPr>
        <p:spPr>
          <a:xfrm>
            <a:off x="755640" y="2133720"/>
            <a:ext cx="1211400" cy="1633320"/>
          </a:xfrm>
          <a:prstGeom prst="rect">
            <a:avLst/>
          </a:prstGeom>
          <a:solidFill>
            <a:srgbClr val="99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Сводный реестр УБП федерального уровн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94200" y="3429000"/>
            <a:ext cx="6937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2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Контрол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C145-983C-42B8-8DA5-7E40E3F655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rame3"/>
          <p:cNvSpPr/>
          <p:nvPr/>
        </p:nvSpPr>
        <p:spPr>
          <a:xfrm>
            <a:off x="1190520" y="1173240"/>
            <a:ext cx="7496280" cy="31957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Федеральное казначей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1569960"/>
            <a:ext cx="5513400" cy="2683080"/>
          </a:xfrm>
          <a:prstGeom prst="rect">
            <a:avLst/>
          </a:prstGeom>
          <a:solidFill>
            <a:srgbClr val="ddddd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Регистрация УБП уровня субъекта РФ (МО), ГВБ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te4"/>
          <p:cNvSpPr/>
          <p:nvPr/>
        </p:nvSpPr>
        <p:spPr>
          <a:xfrm>
            <a:off x="1190520" y="5380200"/>
            <a:ext cx="6148440" cy="1001520"/>
          </a:xfrm>
          <a:prstGeom prst="rec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te4"/>
          <p:cNvSpPr/>
          <p:nvPr/>
        </p:nvSpPr>
        <p:spPr>
          <a:xfrm>
            <a:off x="4397400" y="5369040"/>
            <a:ext cx="285912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marL="177840" indent="-17784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te4"/>
          <p:cNvSpPr/>
          <p:nvPr/>
        </p:nvSpPr>
        <p:spPr>
          <a:xfrm>
            <a:off x="1603440" y="5369040"/>
            <a:ext cx="279396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marL="177840" indent="-177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Участник бюджетного процесса уровня субъекта РФ (МО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Государственные внебюджетные фон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te4"/>
          <p:cNvSpPr/>
          <p:nvPr/>
        </p:nvSpPr>
        <p:spPr>
          <a:xfrm>
            <a:off x="3220920" y="5380200"/>
            <a:ext cx="4381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te4"/>
          <p:cNvSpPr/>
          <p:nvPr/>
        </p:nvSpPr>
        <p:spPr>
          <a:xfrm>
            <a:off x="4780080" y="5380200"/>
            <a:ext cx="14284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"/>
          <p:cNvCxnSpPr>
            <a:stCxn id="231" idx="0"/>
          </p:cNvCxnSpPr>
          <p:nvPr/>
        </p:nvCxnSpPr>
        <p:spPr>
          <a:xfrm flipV="1">
            <a:off x="3727080" y="3974760"/>
            <a:ext cx="1080" cy="1405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34" name=""/>
          <p:cNvCxnSpPr/>
          <p:nvPr/>
        </p:nvCxnSpPr>
        <p:spPr>
          <a:xfrm>
            <a:off x="5508360" y="3357720"/>
            <a:ext cx="3960" cy="2015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35" name="plate4"/>
          <p:cNvSpPr/>
          <p:nvPr/>
        </p:nvSpPr>
        <p:spPr>
          <a:xfrm>
            <a:off x="4836960" y="5380200"/>
            <a:ext cx="66528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te4"/>
          <p:cNvSpPr/>
          <p:nvPr/>
        </p:nvSpPr>
        <p:spPr>
          <a:xfrm>
            <a:off x="7122960" y="5369040"/>
            <a:ext cx="6696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"/>
          <p:cNvCxnSpPr/>
          <p:nvPr/>
        </p:nvCxnSpPr>
        <p:spPr>
          <a:xfrm flipV="1">
            <a:off x="7164360" y="4291920"/>
            <a:ext cx="2160" cy="1080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38" name="frame3"/>
          <p:cNvSpPr/>
          <p:nvPr/>
        </p:nvSpPr>
        <p:spPr>
          <a:xfrm>
            <a:off x="7068960" y="1569960"/>
            <a:ext cx="1527480" cy="2670120"/>
          </a:xfrm>
          <a:prstGeom prst="rect">
            <a:avLst/>
          </a:prstGeom>
          <a:solidFill>
            <a:srgbClr val="ffff99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Официаль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айт Российск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Федерации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ети «Интернет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te4"/>
          <p:cNvSpPr/>
          <p:nvPr/>
        </p:nvSpPr>
        <p:spPr>
          <a:xfrm>
            <a:off x="7122960" y="4022640"/>
            <a:ext cx="6696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te4"/>
          <p:cNvSpPr/>
          <p:nvPr/>
        </p:nvSpPr>
        <p:spPr>
          <a:xfrm>
            <a:off x="7068960" y="2101680"/>
            <a:ext cx="96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524200" y="4532400"/>
            <a:ext cx="78804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5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Получение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сертификат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166520" y="4532400"/>
            <a:ext cx="85824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6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Регистрация 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на ОО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814720" y="39481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УФК/ОФ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84720" y="1773360"/>
            <a:ext cx="9763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5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Размещение 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данных об организаци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92640" y="153504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ЦА Ф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te4"/>
          <p:cNvSpPr/>
          <p:nvPr/>
        </p:nvSpPr>
        <p:spPr>
          <a:xfrm>
            <a:off x="3492360" y="3213000"/>
            <a:ext cx="1217880" cy="755640"/>
          </a:xfrm>
          <a:prstGeom prst="rect">
            <a:avLst/>
          </a:prstGeom>
          <a:solidFill>
            <a:srgbClr val="99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Прием и проверка доку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te4"/>
          <p:cNvSpPr/>
          <p:nvPr/>
        </p:nvSpPr>
        <p:spPr>
          <a:xfrm>
            <a:off x="4859280" y="1773360"/>
            <a:ext cx="1282680" cy="755640"/>
          </a:xfrm>
          <a:prstGeom prst="rect">
            <a:avLst/>
          </a:prstGeom>
          <a:solidFill>
            <a:srgbClr val="99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Регистрация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te4"/>
          <p:cNvSpPr/>
          <p:nvPr/>
        </p:nvSpPr>
        <p:spPr>
          <a:xfrm>
            <a:off x="1619280" y="3068640"/>
            <a:ext cx="1109520" cy="471600"/>
          </a:xfrm>
          <a:prstGeom prst="rect">
            <a:avLst/>
          </a:prstGeom>
          <a:solidFill>
            <a:srgbClr val="99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8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Перечень УБП уровня субъекта РФ (МО), ГВБФ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te4"/>
          <p:cNvSpPr/>
          <p:nvPr/>
        </p:nvSpPr>
        <p:spPr>
          <a:xfrm>
            <a:off x="5637240" y="4941720"/>
            <a:ext cx="735120" cy="217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сертифика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te4"/>
          <p:cNvSpPr/>
          <p:nvPr/>
        </p:nvSpPr>
        <p:spPr>
          <a:xfrm>
            <a:off x="7267680" y="4941720"/>
            <a:ext cx="689040" cy="217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сертифика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te4"/>
          <p:cNvSpPr/>
          <p:nvPr/>
        </p:nvSpPr>
        <p:spPr>
          <a:xfrm rot="5400000">
            <a:off x="5765040" y="2229480"/>
            <a:ext cx="52560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te4"/>
          <p:cNvSpPr/>
          <p:nvPr/>
        </p:nvSpPr>
        <p:spPr>
          <a:xfrm rot="5400000">
            <a:off x="5757840" y="2735280"/>
            <a:ext cx="5256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"/>
          <p:cNvCxnSpPr/>
          <p:nvPr/>
        </p:nvCxnSpPr>
        <p:spPr>
          <a:xfrm flipH="1">
            <a:off x="6156000" y="2349000"/>
            <a:ext cx="8640" cy="506880"/>
          </a:xfrm>
          <a:prstGeom prst="bentConnector3">
            <a:avLst>
              <a:gd name="adj1" fmla="val -1956521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54" name=""/>
          <p:cNvSpPr/>
          <p:nvPr/>
        </p:nvSpPr>
        <p:spPr>
          <a:xfrm>
            <a:off x="6300720" y="2276640"/>
            <a:ext cx="9716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5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Подтверждение полномочий для выдачи сертификат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te4"/>
          <p:cNvSpPr/>
          <p:nvPr/>
        </p:nvSpPr>
        <p:spPr>
          <a:xfrm>
            <a:off x="4011480" y="3757680"/>
            <a:ext cx="4381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708360" y="4437000"/>
            <a:ext cx="153828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2</a:t>
            </a: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Представление 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документов для регистрации организации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Заявки на получение сертификат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te4"/>
          <p:cNvSpPr/>
          <p:nvPr/>
        </p:nvSpPr>
        <p:spPr>
          <a:xfrm>
            <a:off x="2879640" y="5408640"/>
            <a:ext cx="1573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te4"/>
          <p:cNvSpPr/>
          <p:nvPr/>
        </p:nvSpPr>
        <p:spPr>
          <a:xfrm rot="16200000">
            <a:off x="-931680" y="2449440"/>
            <a:ext cx="3067200" cy="523800"/>
          </a:xfrm>
          <a:prstGeom prst="rect">
            <a:avLst/>
          </a:prstGeom>
          <a:solidFill>
            <a:srgbClr val="ffcc99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Финансовый орган субъекта РФ (МО), орган управления ГВБ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te4"/>
          <p:cNvSpPr/>
          <p:nvPr/>
        </p:nvSpPr>
        <p:spPr>
          <a:xfrm>
            <a:off x="6035760" y="2101680"/>
            <a:ext cx="96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2928960"/>
            <a:ext cx="551340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17760" y="1765440"/>
            <a:ext cx="1652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19000" y="3708360"/>
            <a:ext cx="1652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17760" y="3708360"/>
            <a:ext cx="1652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317760" y="2019240"/>
            <a:ext cx="1652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317760" y="3301920"/>
            <a:ext cx="1652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736720" y="2197080"/>
            <a:ext cx="1666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455920" y="3330720"/>
            <a:ext cx="1648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te4"/>
          <p:cNvSpPr/>
          <p:nvPr/>
        </p:nvSpPr>
        <p:spPr>
          <a:xfrm>
            <a:off x="4849920" y="2610000"/>
            <a:ext cx="1282680" cy="75564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достоверяющий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ент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"/>
          <p:cNvCxnSpPr/>
          <p:nvPr/>
        </p:nvCxnSpPr>
        <p:spPr>
          <a:xfrm flipH="1" flipV="1" rot="5400000">
            <a:off x="3795120" y="2189880"/>
            <a:ext cx="1103400" cy="991440"/>
          </a:xfrm>
          <a:prstGeom prst="bentConnector3">
            <a:avLst>
              <a:gd name="adj1" fmla="val 100456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70" name="plate4"/>
          <p:cNvSpPr/>
          <p:nvPr/>
        </p:nvSpPr>
        <p:spPr>
          <a:xfrm>
            <a:off x="7426440" y="5380200"/>
            <a:ext cx="1471320" cy="1001520"/>
          </a:xfrm>
          <a:prstGeom prst="rect">
            <a:avLst/>
          </a:prstGeom>
          <a:solidFill>
            <a:srgbClr val="ffcc99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marL="177840" indent="-177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Вышестоящая организ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Уполномоченный орг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te4"/>
          <p:cNvSpPr/>
          <p:nvPr/>
        </p:nvSpPr>
        <p:spPr>
          <a:xfrm>
            <a:off x="8128080" y="4022640"/>
            <a:ext cx="6660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2" name=""/>
          <p:cNvCxnSpPr>
            <a:endCxn id="271" idx="2"/>
          </p:cNvCxnSpPr>
          <p:nvPr/>
        </p:nvCxnSpPr>
        <p:spPr>
          <a:xfrm flipH="1" flipV="1">
            <a:off x="8160480" y="4227120"/>
            <a:ext cx="11880" cy="1146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lg" type="triangle" w="lg"/>
          </a:ln>
        </p:spPr>
      </p:cxnSp>
      <p:sp>
        <p:nvSpPr>
          <p:cNvPr id="273" name=""/>
          <p:cNvSpPr/>
          <p:nvPr/>
        </p:nvSpPr>
        <p:spPr>
          <a:xfrm>
            <a:off x="8196120" y="4530600"/>
            <a:ext cx="865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7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Получение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информаци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о закупках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72560" y="3255840"/>
            <a:ext cx="6937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3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Контрол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627280" y="2205000"/>
            <a:ext cx="1109520" cy="274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4</a:t>
            </a:r>
            <a:r>
              <a:rPr b="1" lang="en-US" sz="900" spc="-1" strike="noStrike">
                <a:solidFill>
                  <a:srgbClr val="009999"/>
                </a:solidFill>
                <a:latin typeface="Times New Roman"/>
              </a:rPr>
              <a:t>.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Сведения об организаци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te4"/>
          <p:cNvSpPr/>
          <p:nvPr/>
        </p:nvSpPr>
        <p:spPr>
          <a:xfrm>
            <a:off x="1619280" y="3645000"/>
            <a:ext cx="1109520" cy="471240"/>
          </a:xfrm>
          <a:prstGeom prst="rect">
            <a:avLst/>
          </a:prstGeom>
          <a:solidFill>
            <a:srgbClr val="cc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8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Дополнительный перечень УБП уровня субъекта РФ (МО), ГВБФ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625840" y="3645000"/>
            <a:ext cx="6937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3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Контрол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"/>
          <p:cNvCxnSpPr/>
          <p:nvPr/>
        </p:nvCxnSpPr>
        <p:spPr>
          <a:xfrm>
            <a:off x="2700000" y="3428640"/>
            <a:ext cx="754920" cy="1080"/>
          </a:xfrm>
          <a:prstGeom prst="bentConnector2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279" name=""/>
          <p:cNvCxnSpPr/>
          <p:nvPr/>
        </p:nvCxnSpPr>
        <p:spPr>
          <a:xfrm>
            <a:off x="2700000" y="3860280"/>
            <a:ext cx="754920" cy="1080"/>
          </a:xfrm>
          <a:prstGeom prst="bentConnector2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280" name=""/>
          <p:cNvCxnSpPr/>
          <p:nvPr/>
        </p:nvCxnSpPr>
        <p:spPr>
          <a:xfrm>
            <a:off x="934560" y="3835080"/>
            <a:ext cx="669240" cy="1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81" name=""/>
          <p:cNvCxnSpPr/>
          <p:nvPr/>
        </p:nvCxnSpPr>
        <p:spPr>
          <a:xfrm>
            <a:off x="934560" y="3433320"/>
            <a:ext cx="669240" cy="1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82" name=""/>
          <p:cNvSpPr/>
          <p:nvPr/>
        </p:nvSpPr>
        <p:spPr>
          <a:xfrm>
            <a:off x="826920" y="3141720"/>
            <a:ext cx="71496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1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Перечень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УБП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27640" y="3591000"/>
            <a:ext cx="57816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1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Доп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перечень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156360" y="220500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4F8E-40FD-4662-91FF-8F6B3240BB5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Размещение на сайте</a:t>
            </a:r>
            <a:r>
              <a:rPr b="1" lang="en-US" sz="32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в сети «Интернет» информации о деятельности государственных и муниципальных учрежд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250920" y="1412640"/>
            <a:ext cx="86421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Приказ</a:t>
            </a:r>
            <a:r>
              <a:rPr b="1" lang="en-US" sz="2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Министерства финансов Российской Федерации</a:t>
            </a:r>
            <a:r>
              <a:rPr b="1" lang="en-US" sz="2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 порядке предоставления информации о деятельности государственных (муниципальных) учреждений и об использовании закрепленного за ними имущества, ее размещения на официальном сайте в сети Интернет и ведении указанного сайта </a:t>
            </a:r>
            <a:r>
              <a:rPr b="1" lang="en-US" sz="1800" spc="-1" strike="noStrike">
                <a:solidFill>
                  <a:srgbClr val="6699ff"/>
                </a:solidFill>
                <a:latin typeface="Times New Roman"/>
              </a:rPr>
              <a:t>(разрабатывается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0" y="692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Наименование нормативно-правового ак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8E3B-3981-4478-A72E-EA43825D66B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250560" y="1483920"/>
            <a:ext cx="8785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Times New Roman"/>
              </a:rPr>
              <a:t>Учредительные документы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государственного (муниципального) учреждения, в том числе внесённые в них измен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Times New Roman"/>
              </a:rPr>
              <a:t>Свидетельство о государственной регистраци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государственного (муниципального) учрежд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Times New Roman"/>
              </a:rPr>
              <a:t>Решение учредителя о создани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государственного (муниципального) учрежд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Times New Roman"/>
              </a:rPr>
              <a:t>Решение учредителя о назначении руководителя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государственного (муниципального) учрежд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Times New Roman"/>
              </a:rPr>
              <a:t>Положения о филиалах, представительствах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государственного (муниципального) учрежд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Times New Roman"/>
              </a:rPr>
              <a:t>План финансово-хозяйственной деятельност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государственного (муниципального) учрежд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Times New Roman"/>
              </a:rPr>
              <a:t>Годовая бухгалтерская отчётност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государственного (муниципального) учрежд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Times New Roman"/>
              </a:rPr>
              <a:t>Сведения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6699ff"/>
                </a:solidFill>
                <a:latin typeface="Times New Roman"/>
              </a:rPr>
              <a:t>о контрольных мероприятиях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проведённых в отношении государственного (муниципального) учреждения, и их результата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Times New Roman"/>
              </a:rPr>
              <a:t>Государственное (муниципальное) задание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на оказание услуг (выполнение работ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Times New Roman"/>
              </a:rPr>
              <a:t>Отчёт о результатах деятельност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и об использовании закреплённого государственного (муниципального) имуще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765000"/>
            <a:ext cx="914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Сведения, подлежащие размещению на официальном сайте в сети Интер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1628640"/>
            <a:ext cx="91440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б изменениях в работе Федерального казначейств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соответствии с положениями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едерального закона от 08.05.2010 № 83-ФЗ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О внесении изменений в отдельные законодательные акты Российской Федерации в связи с совершенствованием правового положения государственных (муниципальных) учреждений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606560" y="6021360"/>
            <a:ext cx="45370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Руководитель Федерального казначей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Р. Е. Артюх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50920" y="1412640"/>
            <a:ext cx="86421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6699ff"/>
                </a:solidFill>
                <a:latin typeface="Times New Roman"/>
              </a:rPr>
              <a:t> – </a:t>
            </a:r>
            <a:r>
              <a:rPr b="1" lang="en-US" sz="2800" spc="-1" strike="noStrike">
                <a:solidFill>
                  <a:srgbClr val="6699ff"/>
                </a:solidFill>
                <a:latin typeface="Times New Roman"/>
              </a:rPr>
              <a:t>постановления Правительства Российской Федерации</a:t>
            </a:r>
            <a:r>
              <a:rPr b="1" lang="en-US" sz="32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501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Times New Roman"/>
              </a:rPr>
              <a:t>9</a:t>
            </a:r>
            <a:r>
              <a:rPr b="1" lang="en-US" sz="3200" spc="-1" strike="noStrike">
                <a:solidFill>
                  <a:srgbClr val="6699ff"/>
                </a:solidFill>
                <a:latin typeface="Times New Roman"/>
              </a:rPr>
              <a:t> – </a:t>
            </a:r>
            <a:r>
              <a:rPr b="1" lang="en-US" sz="2800" spc="-1" strike="noStrike">
                <a:solidFill>
                  <a:srgbClr val="6699ff"/>
                </a:solidFill>
                <a:latin typeface="Times New Roman"/>
              </a:rPr>
              <a:t>приказов Министерства финансов 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501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Times New Roman"/>
              </a:rPr>
              <a:t>6</a:t>
            </a:r>
            <a:r>
              <a:rPr b="1" lang="en-US" sz="3200" spc="-1" strike="noStrike">
                <a:solidFill>
                  <a:srgbClr val="6699ff"/>
                </a:solidFill>
                <a:latin typeface="Times New Roman"/>
              </a:rPr>
              <a:t> – </a:t>
            </a:r>
            <a:r>
              <a:rPr b="1" lang="en-US" sz="2800" spc="-1" strike="noStrike">
                <a:solidFill>
                  <a:srgbClr val="6699ff"/>
                </a:solidFill>
                <a:latin typeface="Times New Roman"/>
              </a:rPr>
              <a:t>приказов Федерального казначейств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ополнительно: 22 нормативно-правовых акта, вносящих изменения в отдельные акты Правительства Российской Федерации, Министерства финансов Российской Федерации, Федерального казначейства</a:t>
            </a:r>
            <a:r>
              <a:rPr b="1" lang="en-US" sz="18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692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Количество нормативно-правовых актов, устанавливающих изменения в работе Федерального казначей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5229360"/>
            <a:ext cx="8642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8939-C9D4-4CCF-AC32-7E92DB1D40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2276640"/>
            <a:ext cx="7772400" cy="19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Открытие и ведение лицевых счетов бюджетных и автономных учрежд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50920" y="1988640"/>
            <a:ext cx="86421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ff"/>
                </a:solidFill>
                <a:latin typeface="Times New Roman"/>
              </a:rPr>
              <a:t>Приказ Федерального казначейства</a:t>
            </a:r>
            <a:r>
              <a:rPr b="0" lang="ru-RU" sz="2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О внесении изменений в приказ Федерального казначейства от 7 октября 2008 г. № 7н «О порядке открытия и ведения лицевых счетов Федеральным казначейством и его территориальными органами»</a:t>
            </a:r>
            <a:r>
              <a:rPr b="0" lang="ru-RU" sz="2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6699ff"/>
                </a:solidFill>
                <a:latin typeface="Times New Roman"/>
              </a:rPr>
              <a:t>(проект размещен 21.06.2010 на официальном сайте Минфина России </a:t>
            </a:r>
            <a:r>
              <a:rPr b="0" lang="en-US" sz="2000" spc="-1" strike="noStrike">
                <a:solidFill>
                  <a:srgbClr val="6699ff"/>
                </a:solidFill>
                <a:latin typeface="Times New Roman"/>
              </a:rPr>
              <a:t>minfin.ru</a:t>
            </a:r>
            <a:r>
              <a:rPr b="0" lang="ru-RU" sz="2000" spc="-1" strike="noStrike">
                <a:solidFill>
                  <a:srgbClr val="6699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0" y="692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Наименование нормативно-правового ак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05DB-82FF-4081-BA26-65C215069F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9280" y="692280"/>
            <a:ext cx="8229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Открытие лицевых счетов бюджетных (автономных) учре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16720" y="1557360"/>
            <a:ext cx="2449440" cy="51134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95280" y="1268280"/>
          <a:ext cx="8280360" cy="543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268280"/>
                    <a:ext cx="8280360" cy="54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395280" y="1484280"/>
            <a:ext cx="2376360" cy="5184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8865800">
            <a:off x="4847040" y="4962960"/>
            <a:ext cx="515880" cy="289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A249-A0A7-430B-B869-2E18D9A4EB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80000"/>
              </a:lnSpc>
              <a:spcBef>
                <a:spcPts val="240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Лицевой счёт бюджетного учрежде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для учета операций со средствами, предоставленными в виде субсидий из бюджета на возмещение нормативных затрат, связанных с оказанием государственных (муниципальных) услуг (выполнением работ) в соответствии с государственным (муниципальным) задани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0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Отдельный лицевой счёт бюджетного учреждени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ля учета операций со средствами, предоставленными в виде субсидий из бюджетов на иные цели, а также бюджетных инвести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0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Лицевой счёт автономного учреждени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для учёта операций со средствами автономных учрежд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765000"/>
            <a:ext cx="896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Виды лицевых счетов, открываемых</a:t>
            </a:r>
            <a:br>
              <a:rPr sz="2000"/>
            </a:b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в органах Федерального казначейства (финансовых органа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028D-8185-4753-9BB3-5BC87DA415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200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99ff"/>
                </a:solidFill>
                <a:latin typeface="Times New Roman"/>
              </a:rPr>
              <a:t>Заявление на открытие лицевого счё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для учета операций неучастника бюджетного процес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200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99ff"/>
                </a:solidFill>
                <a:latin typeface="Times New Roman"/>
              </a:rPr>
              <a:t>Карточка образцов подписе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 лицевому счёту для учета операций неучастника бюджетного процес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200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99ff"/>
                </a:solidFill>
                <a:latin typeface="Times New Roman"/>
              </a:rPr>
              <a:t>Копия учредительного докумен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положения об обособленном подразделении, утверждённого создавшим его бюджетным (автономным) учреждением (в случае открытия лицевого счёта обособленному подразделению), заверенная учредителем либо нотариальн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200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99ff"/>
                </a:solidFill>
                <a:latin typeface="Times New Roman"/>
              </a:rPr>
              <a:t>Копия документа о государственной регистрации юридического лиц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заверенная учредителем или нотариально, либо органом, осуществляющим государственную регистраци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200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99ff"/>
                </a:solidFill>
                <a:latin typeface="Times New Roman"/>
              </a:rPr>
              <a:t>Копия Свидетельства о постановке на учёт юридического лица в налоговом орган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 месту нахождения на территории РФ, Уведомления о постановке на учёт в налоговом органе юридического лица (в случае открытия лицевого счёта обособленному подразделению), заверенного нотариально либо выдавшим их налоговым орган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69228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Документы, необходимые для открытия лицевых счетов</a:t>
            </a:r>
            <a:br>
              <a:rPr sz="2000"/>
            </a:b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бюджетным (автономным) учрежде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C5E3-33F0-417C-BE6C-332FF08707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Проведение кассовых выплат</a:t>
            </a:r>
            <a:br>
              <a:rPr sz="3200"/>
            </a:b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за счёт средств бюджетных и автономных учрежд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2T13:01:31Z</dcterms:created>
  <dc:creator>User49</dc:creator>
  <dc:description/>
  <dc:language>en-US</dc:language>
  <cp:lastModifiedBy>АМС</cp:lastModifiedBy>
  <dcterms:modified xsi:type="dcterms:W3CDTF">2010-06-24T05:28:56Z</dcterms:modified>
  <cp:revision>130</cp:revision>
  <dc:subject/>
  <dc:title>О перспективах развития Федерального казначейства</dc:title>
</cp:coreProperties>
</file>