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2913" cy="99218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63B5-17FA-4737-9C40-1C2E8555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45A-ED64-4694-ACAB-AADCEE33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6A52-3FF8-44AC-9C97-7ECFE412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D36A-EC21-474C-9288-AE9ED3BC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BB0F-6D0E-498E-950D-1F16FEBE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3C4A-3EA1-422F-A06C-56035EBD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B113-146B-4DD8-916D-A4A68787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A4CF-91D5-4352-9B9D-F7103290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DBF4-AA1D-4551-8425-FEC65475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EE13-E544-4434-866D-0225CA0E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E86-21ED-43E2-AEF4-A774A00B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EE9C-06C1-4EE9-BFD8-F72B7E53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BBA0-BCF9-46A4-A27D-7B2578F1F0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611280" y="333360"/>
            <a:ext cx="7905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этапы реализации предлагаемых изменений (мероприятия субъектов РФ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муниципальных образовани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397160"/>
          <a:ext cx="8893080" cy="4951080"/>
        </p:xfrm>
        <a:graphic>
          <a:graphicData uri="http://schemas.openxmlformats.org/drawingml/2006/table">
            <a:tbl>
              <a:tblPr/>
              <a:tblGrid>
                <a:gridCol w="755640"/>
                <a:gridCol w="5173560"/>
                <a:gridCol w="2963880"/>
              </a:tblGrid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 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законов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убъектов Российской Федерации, нормативных правовых актов местного самоуправления, устанавливающих особенности переходного периода в субъекте Федерации (муниципалитете)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у, начиная с которой осуществляется зачисление в бюджет субъекта Российской Федерации (местный бюджет) доходов, полученных казенными учреждениями субъекта Российской Федерации (муниципальными казенными учреждениями) от платных услуг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 финансового обеспечения бюджетных учреждений (бюджетная смета или субсидия на выполнение государственного задания)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75000"/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ядок и направления  использования учреждениями доходов от платных услуг и иной приносящей доход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0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611280" y="333360"/>
            <a:ext cx="79056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сновные этапы реализации предлагаемых изменений (мероприятия субъектов РФ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муниципальных образований)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0" y="1308240"/>
          <a:ext cx="9036000" cy="5549760"/>
        </p:xfrm>
        <a:graphic>
          <a:graphicData uri="http://schemas.openxmlformats.org/drawingml/2006/table">
            <a:tbl>
              <a:tblPr/>
              <a:tblGrid>
                <a:gridCol w="755640"/>
                <a:gridCol w="5173560"/>
                <a:gridCol w="31068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ок реализ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ие нормативных правовых актов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силу которых создаются казенные учреждения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утем изменения типа бюджетных учреждений, действовавших на дату принятия указанных нормативных правовых актов, с указанием в них перечня казенных 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0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верждени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чней недвижимого имуществ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дведомственных учреждений, закрепленного за ними учредителем или приобретенным за счет средств, выделенных учредителем на эти цели, в целях расчета субсид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января 2011 г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нятие решений об отнесении движимого имущества БУ к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собо ценному движимому имуществ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марта 2011 г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есени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й в уставы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одведомственны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179280" indent="17964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х и казенных 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45720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 декабря 2011 год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1773360"/>
          <a:ext cx="9144000" cy="911160"/>
        </p:xfrm>
        <a:graphic>
          <a:graphicData uri="http://schemas.openxmlformats.org/drawingml/2006/table">
            <a:tbl>
              <a:tblPr/>
              <a:tblGrid>
                <a:gridCol w="545040"/>
                <a:gridCol w="1055520"/>
                <a:gridCol w="4426200"/>
                <a:gridCol w="3117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тьи базового зак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нормативного правового акта требующего разработ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, выпускающий а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0" y="2708280"/>
          <a:ext cx="9144000" cy="2922480"/>
        </p:xfrm>
        <a:graphic>
          <a:graphicData uri="http://schemas.openxmlformats.org/drawingml/2006/table">
            <a:tbl>
              <a:tblPr/>
              <a:tblGrid>
                <a:gridCol w="539640"/>
                <a:gridCol w="1068480"/>
                <a:gridCol w="4403880"/>
                <a:gridCol w="3132000"/>
              </a:tblGrid>
              <a:tr h="192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 «б» п. 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 ст. 1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4 ст. 14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.1 ст. 16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 ст. 17.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 ст. 18 и ст. 19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5 ФЗ № 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5 ст. 31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оздания, реорганизации, изменения типа и ликвидации государственных учреждений субъектов Российской Федерации (муниципальных учреждений), а также утверждения уставов государственных учреждений субъекта Российской Федерации (муниципальных учреждений) и внесения в них измен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4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пределения платы за оказание бюджетным учреждением субъектов  Российской Федерации (муниципальным учреждением) услуг (выполнение работ), относящихся к основным видам деятельности бюджетного учреждения, для граждан и юридических ли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440" y="1833480"/>
          <a:ext cx="9142560" cy="3900240"/>
        </p:xfrm>
        <a:graphic>
          <a:graphicData uri="http://schemas.openxmlformats.org/drawingml/2006/table">
            <a:tbl>
              <a:tblPr/>
              <a:tblGrid>
                <a:gridCol w="317520"/>
                <a:gridCol w="1344600"/>
                <a:gridCol w="4540320"/>
                <a:gridCol w="2940120"/>
              </a:tblGrid>
              <a:tr h="144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5 и 6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осуществления бюджетными учреждениями полномочий органа государственной власти субъекта Российской Федерации, органа местного самоуправления по исполнению публичных обязательств перед физическим лицом, подлежащих исполнению в денежной форме и определение порядка финансового обеспечения их осущест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7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верждение условий и порядка формирования государственного задания и порядок финансового обеспечения выполнения этого задания бюджетными учреждениями субъектов Российской Федерации (муниципальными бюджетными учреждениям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1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 ст. 3 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пределения видов особо ценного движимого имущества, в отношении бюджетных учреждений субъектов Российской Федерации (муниципальных бюджет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40" y="1628640"/>
          <a:ext cx="9142560" cy="3024360"/>
        </p:xfrm>
        <a:graphic>
          <a:graphicData uri="http://schemas.openxmlformats.org/drawingml/2006/table">
            <a:tbl>
              <a:tblPr/>
              <a:tblGrid>
                <a:gridCol w="393840"/>
                <a:gridCol w="1268280"/>
                <a:gridCol w="4540320"/>
                <a:gridCol w="2940120"/>
              </a:tblGrid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2 ст. 9.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еречня особо ценного движимого имущества бюджетного учреждения субъектов Российской Федерации (муниципального бюджетного учрежде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.3 ст. 32 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составления и утверждения плана финансово-хозяйственной деятельности учреждений субъектов Российской Федерации (муниципаль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3.3 ст. 32 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составления  и утверждения Отчета о результатах деятельности муниципального учреждения и об использовании закрепленного за ним муниципального имущ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4653000"/>
          <a:ext cx="9144000" cy="2006640"/>
        </p:xfrm>
        <a:graphic>
          <a:graphicData uri="http://schemas.openxmlformats.org/drawingml/2006/table">
            <a:tbl>
              <a:tblPr/>
              <a:tblGrid>
                <a:gridCol w="395280"/>
                <a:gridCol w="1265400"/>
                <a:gridCol w="4539960"/>
                <a:gridCol w="294336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.1 ст. 32 7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существления контроля за деятельностью бюджетных и казенных учреждений субъекта Российской Федерации (муниципальных бюджетных и казен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5 ст. 79 БК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предоставления бюджетных инвестиций автономным  и бюджетным учреждениям субъектов Российской Федерации (муниципальным автономным и бюджетным учрежден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сший исполнительный орган государственной власти субъекта Российской Федерации (местная администрация 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628640"/>
          <a:ext cx="9144000" cy="4743720"/>
        </p:xfrm>
        <a:graphic>
          <a:graphicData uri="http://schemas.openxmlformats.org/drawingml/2006/table">
            <a:tbl>
              <a:tblPr/>
              <a:tblGrid>
                <a:gridCol w="395280"/>
                <a:gridCol w="1266840"/>
                <a:gridCol w="4538520"/>
                <a:gridCol w="2943360"/>
              </a:tblGrid>
              <a:tr h="9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 ст. 221 БК Р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оставления, утверждения и ведения бюджетных смет казенных учреждений субъектов Российской Федерации (муниципальных казен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. 3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3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ткрытия и ведения лицевых счетов автономным учреждениям в финансовом органе субъекта Российской Федерации (муниципального образования) и проведения кассовых выплат за счет средств автономных учреждений, лицевые счета которым открыты в финансовом органе субъекта Российской Федерации (муниципальном образовании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3, 6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открытия и ведения лицевых счетов бюджетным учреждениям субъектов Российской Федерации (муниципальных бюджетных учреждений) в финансовом органе субъекта Российской Федерации (муниципального образования) и порядка проведения кассовых выплат за счет средств бюджетных учреждений субъектов Российской Федерации (муниципальных бюджетных учреждений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. 10 п. 20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учета и хранения исполнительных документов, предусматривающих взыскание на средства бюджетных учреждений субъектов Российской Федерации (муниципальных бюджетных учреждений), и иных документов, связанных с их исполнение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0" y="1700280"/>
          <a:ext cx="9144000" cy="4378320"/>
        </p:xfrm>
        <a:graphic>
          <a:graphicData uri="http://schemas.openxmlformats.org/drawingml/2006/table">
            <a:tbl>
              <a:tblPr/>
              <a:tblGrid>
                <a:gridCol w="468360"/>
                <a:gridCol w="1193760"/>
                <a:gridCol w="4538520"/>
                <a:gridCol w="294336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6 ст.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санкционирования расходов бюджетных учреждений субъектов Российской Федерации (муниципальных бюджетных учреждений), источником финансового обеспечения которых являются субсидии, полученные в соответствии с абзацем вторым части 1 статьи 78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и пунктом 5 статьи 79 Бюджетного кодекса Российской Федер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18, 19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порядка взыскания в бюджет субъекта Российской Федерации (местный бюджет) неиспользованных в текущем финансовом году остатков субсидий, предоставленных бюджетным учреждениям субъекта Российской Федерации (муниципальным бюджетным учреждения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3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перечисления в бюджет субъекта Российской Федерации (местный бюджет) остатков средств с соответствующих счетов, на которых отражаются операции со средствами бюджетных учреждений субъекта Российской Федерации (муниципальных бюджетных учреждений), а также их возврата на указанные сч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овый орган субъекта Российской Федерации (муниципального образован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27 ст. 30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редельно допустимых значений просроченной кредиторской задолженности бюджетного учреждения, превышение которых влечет расторжение трудового договора по инициативе работодателя в соответствии с Трудовым кодексом Российской Федерации с руководителем бюджетного учрежд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 государственной власти субъекта Российской Федерации (орган местного самоуправления), осуществляющие функции и полномочия учред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e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11280" y="692280"/>
            <a:ext cx="79056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ормативные правовые акты органов государственной власти субъектов Российской Федерации и органов местного самоуправления (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1628640"/>
          <a:ext cx="9144000" cy="4837320"/>
        </p:xfrm>
        <a:graphic>
          <a:graphicData uri="http://schemas.openxmlformats.org/drawingml/2006/table">
            <a:tbl>
              <a:tblPr/>
              <a:tblGrid>
                <a:gridCol w="395280"/>
                <a:gridCol w="1266840"/>
                <a:gridCol w="4538520"/>
                <a:gridCol w="2943360"/>
              </a:tblGrid>
              <a:tr h="483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16 ст. 33 83-Ф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формы финансового обеспечения деятельности бюджетных учреждений субъекта Российской Федерации (муниципальных бюджетных учреждений) в переходный период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даты, начиная с которой осуществляется зачисление в бюджет субъекта Российской Федерации (местный бюджет) доходов, полученных казенными учреждениями субъекта Российской Федерации (муниципальными казенными учреждениями) от платных услу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и направления использования бюджетными учреждениями субъектов Российской Федерации, являющимися получателями бюджетных средств, и казенными учреждениями субъектов Российской Федерации (муниципальными бюджетными учреждениями, являющимися получателями бюджетных средств, и муниципальными казенными учреждениями) доходов от сдачи в аренду имущества, находящегося в государственной собственности субъекта Российской Федерации (муниципальной собственности) и переданного в оперативное управление указанным учрежден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тановление порядка и направления использования бюджетными учреждениями субъектов Российской Федерации, являющимися получателями бюджетных средств, и казенными учреждениями субъектов Российской Федерации (муниципальными бюджетными учреждениями, являющимися получателями бюджетных средств, и муниципальными казенными учреждениями) доходов от оказания платных услуг и иной приносящей доходы деяте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онодательные (представительные) органы государственной власти субъекта Российской Федерации и представительные органы местного самоуправ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5T08:20:31Z</dcterms:created>
  <dc:creator>Alexey.Starovoytov</dc:creator>
  <dc:description/>
  <dc:language>en-US</dc:language>
  <cp:lastModifiedBy>Валева</cp:lastModifiedBy>
  <cp:lastPrinted>2009-05-16T07:21:51Z</cp:lastPrinted>
  <dcterms:modified xsi:type="dcterms:W3CDTF">2010-05-19T06:55:35Z</dcterms:modified>
  <cp:revision>691</cp:revision>
  <dc:subject/>
  <dc:title>Слайд 1</dc:title>
</cp:coreProperties>
</file>