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Arial Narrow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317942-A317-44F8-8477-976D836F78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88711B-27D0-41D9-A439-45196288EE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454842-FD26-410D-B3B0-32E2BBD7AA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8C9-4134-4822-9AE1-67C73A42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843-CE3F-4898-94D9-50D2EAB6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A82-D923-4300-9FE8-63E8E219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A7B-5C45-426D-8583-CE0D3774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32EF-DD97-4488-B271-905E68FC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16DC-774D-4DC7-A8A2-DA6752BD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767C-FA48-49CC-8B50-F1BB89F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C4F5-12C4-4E38-B858-0D58F188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3E3B-BFC7-4C71-A914-48E8DC29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77FE-95F8-4342-ABD9-93162397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E17A-48F3-49FA-9948-B28E0EF6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23C-DD6A-473D-8377-7735F795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C25F-73C7-4A0A-88BC-A7B10ABF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E9B7-E892-4F1A-8F46-2E721E6E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9473-1D3C-4FA3-84B4-8FA83675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CA39-5B17-4AD1-B9C2-260DB328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64BA-8D2B-4664-83A0-582B51A7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51B-9F23-4198-B096-1FC16D54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101-B2A0-4E06-BCED-6051D080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0DA-C2DB-4D0C-BBEF-5F05AC2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940-268B-4211-A994-527D4501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4A5-8332-40F6-AA69-E0A64FC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898-0DE8-4C8A-9446-4DB3196E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E2A-A257-41FB-B194-E69AE214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B71B-39D5-42DC-AA66-BF73808090E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CE39E87-DF42-4CC1-9EE8-36413A3323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17"/>
          <p:cNvSpPr/>
          <p:nvPr/>
        </p:nvSpPr>
        <p:spPr>
          <a:xfrm>
            <a:off x="0" y="455760"/>
            <a:ext cx="185760" cy="640224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Freeform 31"/>
          <p:cNvSpPr/>
          <p:nvPr/>
        </p:nvSpPr>
        <p:spPr>
          <a:xfrm>
            <a:off x="-1440" y="457200"/>
            <a:ext cx="9144000" cy="19692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8189-2D96-4B3C-B3FE-BCD4F34FCE4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CB1039D-EE29-457E-94F4-6C4C5F3988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116000" y="2133720"/>
            <a:ext cx="7272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орядок формирования и финансового обеспечения государственных зад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Горячая линия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rum.iminfin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0B0B-D188-47ED-B1C2-65F3EC7E57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1125360"/>
            <a:ext cx="8964720" cy="280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205596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образования (ВУЗы, колледж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944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здравохр-я (поликлиники, больницы, санатори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1738440"/>
            <a:ext cx="143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культуры (библиотеки, музе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Изменение подходов к формированию перечней государственных услуг</a:t>
            </a:r>
            <a:r>
              <a:rPr b="0" lang="ru-RU" sz="2200" spc="-1" strike="noStrike">
                <a:solidFill>
                  <a:srgbClr val="514185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341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 настоящее 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1268280"/>
            <a:ext cx="107928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1773360"/>
            <a:ext cx="122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фильные отраслевые ФГ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2852640"/>
            <a:ext cx="1584360" cy="5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обрнау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746440"/>
            <a:ext cx="1657440" cy="75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здрав-соц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53440" y="2708280"/>
            <a:ext cx="1439640" cy="5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культ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1418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редлага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2637000"/>
            <a:ext cx="2016000" cy="750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 вышестоящего министе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76720" y="1557360"/>
            <a:ext cx="100800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1557360"/>
            <a:ext cx="237672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1700280"/>
            <a:ext cx="43200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140360" y="1700280"/>
            <a:ext cx="358560" cy="36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195280" y="2276640"/>
            <a:ext cx="431640" cy="36036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49228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44000" y="242100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4581360"/>
            <a:ext cx="22320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Arial Narrow"/>
              </a:rPr>
              <a:t>Базовый (отраслевой) перечень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министерства в сфере регул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3860640"/>
            <a:ext cx="644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Ведомственный перечень ФОИ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Arial Narrow"/>
              </a:rPr>
              <a:t>(с правом дополнения и детализации базовых (отраслевых) перечне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637000"/>
            <a:ext cx="0" cy="2156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520380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образования (ВУЗы, колледж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5170320"/>
            <a:ext cx="2087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здравохр-я (поликлиники, больницы, санатори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5097600"/>
            <a:ext cx="1511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культуры (библиотеки, музе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4556160"/>
            <a:ext cx="93492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5025960"/>
            <a:ext cx="122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фильные отраслевые ФГ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6140520"/>
            <a:ext cx="5113440" cy="31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ФОИ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0920" y="4843440"/>
            <a:ext cx="107964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4843440"/>
            <a:ext cx="1944720" cy="217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4987800"/>
            <a:ext cx="288720" cy="2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932360" y="4941720"/>
            <a:ext cx="287280" cy="333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1672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01080" y="5853240"/>
            <a:ext cx="0" cy="2142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BB57-80E0-49F5-B85F-A863EC3A41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160" y="549360"/>
            <a:ext cx="919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Изменение формата перечня госуслу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2205000"/>
          <a:ext cx="8424720" cy="676440"/>
        </p:xfrm>
        <a:graphic>
          <a:graphicData uri="http://schemas.openxmlformats.org/drawingml/2006/table">
            <a:tbl>
              <a:tblPr/>
              <a:tblGrid>
                <a:gridCol w="1474560"/>
                <a:gridCol w="1405080"/>
                <a:gridCol w="2057400"/>
                <a:gridCol w="1758960"/>
                <a:gridCol w="172872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и потреб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чень и единицы измерения показателей объ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ые требования к качеству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еквизиты НПА, утверждающего адм.регла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0" y="1557360"/>
            <a:ext cx="91440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чень утверждает отраслевое министерство для всех учреждений соотв. от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форм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760920"/>
            <a:ext cx="309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инистерство</a:t>
            </a:r>
            <a:r>
              <a:rPr b="1" lang="ru-RU" sz="1800" spc="-1" strike="noStrike">
                <a:solidFill>
                  <a:srgbClr val="ff7c8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ОБЯЗАН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утвердить в </a:t>
            </a:r>
            <a:r>
              <a:rPr b="0" lang="ru-RU" sz="1800" spc="-1" strike="noStrike">
                <a:solidFill>
                  <a:srgbClr val="3333cc"/>
                </a:solidFill>
                <a:latin typeface="Arial Narrow"/>
              </a:rPr>
              <a:t>базово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ереч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200" y="4552920"/>
          <a:ext cx="8866440" cy="809640"/>
        </p:xfrm>
        <a:graphic>
          <a:graphicData uri="http://schemas.openxmlformats.org/drawingml/2006/table">
            <a:tbl>
              <a:tblPr/>
              <a:tblGrid>
                <a:gridCol w="1378080"/>
                <a:gridCol w="1584360"/>
                <a:gridCol w="1800000"/>
                <a:gridCol w="2664000"/>
                <a:gridCol w="144000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и потреб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чень и единицы измерения показателей объ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ые требования к качеству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ФГУ (групп ФГ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 rot="16200000">
            <a:off x="1585080" y="2913840"/>
            <a:ext cx="284400" cy="2952720"/>
          </a:xfrm>
          <a:custGeom>
            <a:avLst/>
            <a:gdLst>
              <a:gd name="textAreaLeft" fmla="*/ 0 w 284400"/>
              <a:gd name="textAreaRight" fmla="*/ 102600 w 2844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4920" y="3573360"/>
            <a:ext cx="33130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инистерство</a:t>
            </a:r>
            <a:r>
              <a:rPr b="1" lang="ru-RU" sz="1800" spc="-1" strike="noStrike">
                <a:solidFill>
                  <a:srgbClr val="336600"/>
                </a:solidFill>
                <a:latin typeface="Arial Narrow"/>
              </a:rPr>
              <a:t> ВПРАВЕ</a:t>
            </a:r>
            <a:r>
              <a:rPr b="0" lang="ru-RU" sz="1800" spc="-1" strike="noStrike">
                <a:solidFill>
                  <a:srgbClr val="336600"/>
                </a:solidFill>
                <a:latin typeface="Arial Narrow"/>
              </a:rPr>
              <a:t>  (в ряде случаев – обязано)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утвердить в </a:t>
            </a:r>
            <a:r>
              <a:rPr b="0" lang="ru-RU" sz="1800" spc="-1" strike="noStrike">
                <a:solidFill>
                  <a:srgbClr val="336600"/>
                </a:solidFill>
                <a:latin typeface="Arial Narrow"/>
              </a:rPr>
              <a:t>базово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ереч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6968160" y="3481920"/>
            <a:ext cx="284040" cy="4067280"/>
          </a:xfrm>
          <a:custGeom>
            <a:avLst/>
            <a:gdLst>
              <a:gd name="textAreaLeft" fmla="*/ 0 w 284040"/>
              <a:gd name="textAreaRight" fmla="*/ 102600 w 284040"/>
              <a:gd name="textAreaTop" fmla="*/ 105840 h 4067280"/>
              <a:gd name="textAreaBottom" fmla="*/ 3961440 h 40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4234"/>
                </a:lnTo>
                <a:cubicBezTo>
                  <a:pt x="10800" y="15134"/>
                  <a:pt x="16200" y="16034"/>
                  <a:pt x="21600" y="16034"/>
                </a:cubicBezTo>
                <a:cubicBezTo>
                  <a:pt x="16200" y="16034"/>
                  <a:pt x="10800" y="16934"/>
                  <a:pt x="10800" y="178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1147680"/>
            <a:ext cx="36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   НАСТОЯЩЕЕ    ВРЕМ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3068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ЕДЛАГАЕТСЯ (приложение 2 к проекту постановлен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5328360" y="2169000"/>
            <a:ext cx="287640" cy="4390920"/>
          </a:xfrm>
          <a:custGeom>
            <a:avLst/>
            <a:gdLst>
              <a:gd name="textAreaLeft" fmla="*/ 0 w 287640"/>
              <a:gd name="textAreaRight" fmla="*/ 103680 w 287640"/>
              <a:gd name="textAreaTop" fmla="*/ 114480 h 4390920"/>
              <a:gd name="textAreaBottom" fmla="*/ 4276440 h 43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604"/>
                </a:lnTo>
                <a:cubicBezTo>
                  <a:pt x="10800" y="4504"/>
                  <a:pt x="16200" y="5404"/>
                  <a:pt x="21600" y="5404"/>
                </a:cubicBezTo>
                <a:cubicBezTo>
                  <a:pt x="16200" y="5404"/>
                  <a:pt x="10800" y="6304"/>
                  <a:pt x="10800" y="720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2557080" y="3211200"/>
            <a:ext cx="284040" cy="4608360"/>
          </a:xfrm>
          <a:custGeom>
            <a:avLst/>
            <a:gdLst>
              <a:gd name="textAreaLeft" fmla="*/ 0 w 284040"/>
              <a:gd name="textAreaRight" fmla="*/ 102600 w 28404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000" y="5848200"/>
            <a:ext cx="446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ИВ </a:t>
            </a: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ОБЯЗАН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утвердить в ведомственном перечне (с правом дополнения и детализа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5848200"/>
            <a:ext cx="4103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ИВ </a:t>
            </a:r>
            <a:r>
              <a:rPr b="1" lang="ru-RU" sz="1800" spc="-1" strike="noStrike">
                <a:solidFill>
                  <a:srgbClr val="336600"/>
                </a:solidFill>
                <a:latin typeface="Arial Narrow"/>
              </a:rPr>
              <a:t>ВПРАВ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в ряде случаев – обязано) утвердить в ведомственном перечне (с правом дополнения и детализа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EB4F-AC71-466F-861A-75CD178E48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Требования к качеству госуслуги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) Требования 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ЦЕССУ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технологии) оказания госуслуги (образовательные стандарты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граммы, протоколы лечения, административные регламенты и т.д.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если утверждены нормативным правовым актом Правительства РФ или Министерства, указываются в базовом (отраслевом) и ведомственном перечне в обязательном порядке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сылка. ПРОБЛЕМА – скрытые нефинансируемые мандаты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если утверждены нормативным правовым актом ФОИВ (при наличии полномочий), указываются в ведомственном перечне госуслуг в обязательном порядке (ссылка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о решению Министерства и (или) ФОИВ в базовом и (или) ведомственном перечне могут указываться дополнительные требования (с приложением к перечню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2) Требования 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ЛОВИЯ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оказания госуслуги (помещениям, оборудованию и т.д.) – аналогично (ПРОБЛЕМА – скрытые нефинансируемые мандаты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) Показатели, используемые для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ЦЕНКИ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результатов оказания услуг (удовлетворенность потребителей, ЕГЭ и т.д.) – указываются по решению Министерства (в базовом перечне) и (или) ФОИВ (в ведомственном перечне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 основе подпрограмм по оказанию госуслуг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F69D-D78D-4FE3-9178-BB5215D497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9400" y="620640"/>
            <a:ext cx="899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"/>
              </a:rPr>
              <a:t>Форма госзад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268280"/>
            <a:ext cx="71294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чная форма устанавливается Правительством РФ </a:t>
            </a:r>
            <a:r>
              <a:rPr b="0" i="1" lang="ru-RU" sz="1800" spc="-1" strike="noStrike">
                <a:solidFill>
                  <a:srgbClr val="777777"/>
                </a:solidFill>
                <a:latin typeface="Arial"/>
              </a:rPr>
              <a:t>(может расширяться по решению ФОИ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формы задания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77777"/>
                </a:solidFill>
                <a:latin typeface="Arial"/>
              </a:rPr>
              <a:t>1) задание на оказание услуг, 2) задание на выполнение раб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0" y="285264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2593800"/>
          <a:ext cx="8713800" cy="4150080"/>
        </p:xfrm>
        <a:graphic>
          <a:graphicData uri="http://schemas.openxmlformats.org/drawingml/2006/table">
            <a:tbl>
              <a:tblPr/>
              <a:tblGrid>
                <a:gridCol w="2808360"/>
                <a:gridCol w="5905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Раздел гос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то планируется изменить/сохран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ыписка из Р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ключается (в соответствии с законом 83-Ф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пределение потреб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став информации о потребителях в ГЗ упрощае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казатели качества и объ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храняются, показатели качества делятся на 3 группы, вводятся минимальные требования к их утвержд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рядок оказания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прощается (сохраняются ссылки на НПА и требования к информированию потребителей, исключаются детальные требования к имуществу, кадр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рядок контроля и досрочного прек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точняется формат таблиц в госзадании (количество представляемой информации сохраняетс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едельные цены (тариф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точняется формат таблиц (количество информации сохраняется) – платные услуги в рамках госздания не предоставляю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ребования к отчетности об исполнении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водится форма отчета, расширенная по сравнению с действующим вариа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020000" y="1557360"/>
            <a:ext cx="2016000" cy="647640"/>
          </a:xfrm>
          <a:prstGeom prst="wedgeRoundRectCallout">
            <a:avLst>
              <a:gd name="adj1" fmla="val -68976"/>
              <a:gd name="adj2" fmla="val -52939"/>
              <a:gd name="adj3" fmla="val 16667"/>
            </a:avLst>
          </a:prstGeom>
          <a:solidFill>
            <a:srgbClr val="ffff99"/>
          </a:solidFill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м. Приложения 1, 2 к Полож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71C0-18C5-4455-AFC3-074F86AF93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Показатели качества госуслуг, включаемые в госзадание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487520"/>
            <a:ext cx="86486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блюдаются требования к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результату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казания услуг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указанные в ведомственном перечне госуслуг - обязательн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дополнительные для данного ФГУ (вопрос к обсуждению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блюдаются требования к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процессу и условиям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казания услуг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указанные в ведомственном перечне госуслуг - обязательн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дополнительные для данного ФГУ (вопрос к обсуждению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нь показателе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(БЕЗ УСТАНОВЛЕНИЯ ИХ ЗНАЧЕНИ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, возможны формулировки «сохранение», «рост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нижение»), по которым будут оцениваться результаты оказания госулсуг (деятельность ФГУ)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лько указанные в ведомственном перечне (установление индивидуальных показателей оценки не допускается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74BE-0EB1-4D9F-924F-2DF90E7D13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Расчетно-нормативные затраты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1449360"/>
            <a:ext cx="6264360" cy="648000"/>
          </a:xfrm>
          <a:prstGeom prst="rect">
            <a:avLst/>
          </a:prstGeom>
          <a:noFill/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Методические рекомендации Минфина Росс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(Приказ 105н в новой редак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2349360"/>
            <a:ext cx="83516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Arial"/>
              </a:rPr>
              <a:t>Общие принципы сохраняю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Разделение затрат на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ние услуг (выполнение работ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имущества в «спящем» режиме (30% от расходов, вопрос к обсуждению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3 способа определения нормативов на услу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озможность дифференциации норматив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5DE5-0722-4CFC-8AB9-BF99A8A55A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345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 Narrow"/>
              </a:rPr>
              <a:t>ФОРМУЛА РАСЧЕТА ЗАТРАТ НА 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 Narrow"/>
              </a:rPr>
              <a:t>ОКАЗАНИЕ ГОСУДАРСТВЕННОЙ УСЛУГИ</a:t>
            </a:r>
            <a:endParaRPr b="0" lang="en-US" sz="1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2575080" y="1344600"/>
            <a:ext cx="3671640" cy="865080"/>
          </a:xfrm>
          <a:prstGeom prst="flowChartAlternateProcess">
            <a:avLst/>
          </a:prstGeom>
          <a:solidFill>
            <a:srgbClr val="969696">
              <a:alpha val="4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Rectangle 3"/>
              <p:cNvSpPr txBox="1"/>
              <p:nvPr/>
            </p:nvSpPr>
            <p:spPr>
              <a:xfrm>
                <a:off x="2830680" y="1422360"/>
                <a:ext cx="3139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у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ч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641520" y="2652840"/>
            <a:ext cx="850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оч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– норматив затрат на оказание единицы государственной услуги ФОИВ (ФБУ) на соответствующий финансовый г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ki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личество единиц оказания одной государственной услуги в соответствующем финансовом го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4076640"/>
            <a:ext cx="8353440" cy="647640"/>
          </a:xfrm>
          <a:prstGeom prst="rect">
            <a:avLst/>
          </a:prstGeom>
          <a:solidFill>
            <a:srgbClr val="96969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Ы РАСЧЕТА НОРМАТ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ТРАТ НА ОКАЗАНИЕ ЕДИНИЦЫ ГОСУДАРСТВЕННОЙ 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15840" y="4581000"/>
            <a:ext cx="7272000" cy="1080000"/>
            <a:chOff x="915840" y="4581000"/>
            <a:chExt cx="7272000" cy="1080000"/>
          </a:xfrm>
        </p:grpSpPr>
        <p:sp>
          <p:nvSpPr>
            <p:cNvPr id="224" name=""/>
            <p:cNvSpPr/>
            <p:nvPr/>
          </p:nvSpPr>
          <p:spPr>
            <a:xfrm>
              <a:off x="91584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орматив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3584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труктур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5620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эксперт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4235760" y="4725720"/>
              <a:ext cx="1080" cy="504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2" idx="2"/>
              <a:endCxn id="224" idx="0"/>
            </p:cNvCxnSpPr>
            <p:nvPr/>
          </p:nvCxnSpPr>
          <p:spPr>
            <a:xfrm rot="5400000">
              <a:off x="2731680" y="3725280"/>
              <a:ext cx="648360" cy="23598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22" idx="2"/>
              <a:endCxn id="226" idx="0"/>
            </p:cNvCxnSpPr>
            <p:nvPr/>
          </p:nvCxnSpPr>
          <p:spPr>
            <a:xfrm flipH="1" rot="16200000">
              <a:off x="5058720" y="3758040"/>
              <a:ext cx="648360" cy="2293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30" name=""/>
          <p:cNvSpPr/>
          <p:nvPr/>
        </p:nvSpPr>
        <p:spPr>
          <a:xfrm>
            <a:off x="1332000" y="5950080"/>
            <a:ext cx="9144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5950080"/>
            <a:ext cx="71892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638172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602136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11280" y="6237360"/>
            <a:ext cx="13687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6021360"/>
            <a:ext cx="71928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638172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88000" y="6308640"/>
            <a:ext cx="1368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655308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72D3579-E5BC-43F2-8408-56AD95CAE5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AB97-7ECA-4959-9C71-E113254619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36240" y="336240"/>
            <a:ext cx="75502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Направления развития нормативов</a:t>
            </a:r>
            <a:endParaRPr b="0" lang="en-US" sz="20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448000" y="1227240"/>
            <a:ext cx="4128840" cy="766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ТИВ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нансового обеспечения государственных зад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52280" y="3124080"/>
            <a:ext cx="1540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диви-ду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809720" y="3352680"/>
            <a:ext cx="1981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коэффициен-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924360" y="3789360"/>
            <a:ext cx="1828800" cy="118728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ти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796000" y="4437000"/>
            <a:ext cx="1846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равоч-ные коэф-фици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524720" y="4869000"/>
            <a:ext cx="1619280" cy="118728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-му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9"/>
          <p:cNvCxnSpPr>
            <a:stCxn id="240" idx="1"/>
            <a:endCxn id="241" idx="0"/>
          </p:cNvCxnSpPr>
          <p:nvPr/>
        </p:nvCxnSpPr>
        <p:spPr>
          <a:xfrm flipV="1" rot="10800000">
            <a:off x="921600" y="1611000"/>
            <a:ext cx="1526400" cy="151344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7" name="AutoShape 10"/>
          <p:cNvCxnSpPr>
            <a:stCxn id="240" idx="1"/>
            <a:endCxn id="242" idx="0"/>
          </p:cNvCxnSpPr>
          <p:nvPr/>
        </p:nvCxnSpPr>
        <p:spPr>
          <a:xfrm flipH="1" flipV="1" rot="10800000">
            <a:off x="2446920" y="1610280"/>
            <a:ext cx="353160" cy="1742040"/>
          </a:xfrm>
          <a:prstGeom prst="bentConnector4">
            <a:avLst>
              <a:gd name="adj1" fmla="val -64795"/>
              <a:gd name="adj2" fmla="val 60975"/>
            </a:avLst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8" name="AutoShape 11"/>
          <p:cNvCxnSpPr>
            <a:stCxn id="240" idx="2"/>
            <a:endCxn id="243" idx="0"/>
          </p:cNvCxnSpPr>
          <p:nvPr/>
        </p:nvCxnSpPr>
        <p:spPr>
          <a:xfrm flipH="1" rot="16200000">
            <a:off x="3778200" y="2728440"/>
            <a:ext cx="1796040" cy="326160"/>
          </a:xfrm>
          <a:prstGeom prst="bentConnector3">
            <a:avLst>
              <a:gd name="adj1" fmla="val 49939"/>
            </a:avLst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9" name="AutoShape 12"/>
          <p:cNvCxnSpPr>
            <a:stCxn id="240" idx="3"/>
            <a:endCxn id="244" idx="0"/>
          </p:cNvCxnSpPr>
          <p:nvPr/>
        </p:nvCxnSpPr>
        <p:spPr>
          <a:xfrm>
            <a:off x="6576480" y="1611000"/>
            <a:ext cx="143640" cy="282636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50" name="AutoShape 13"/>
          <p:cNvCxnSpPr>
            <a:stCxn id="240" idx="3"/>
            <a:endCxn id="245" idx="0"/>
          </p:cNvCxnSpPr>
          <p:nvPr/>
        </p:nvCxnSpPr>
        <p:spPr>
          <a:xfrm>
            <a:off x="6576840" y="1611000"/>
            <a:ext cx="1758240" cy="325836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51" name="AutoShape 14"/>
          <p:cNvCxnSpPr/>
          <p:nvPr/>
        </p:nvCxnSpPr>
        <p:spPr>
          <a:xfrm>
            <a:off x="1042920" y="4652640"/>
            <a:ext cx="6555600" cy="158508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52" name="Text Box 15"/>
          <p:cNvSpPr/>
          <p:nvPr/>
        </p:nvSpPr>
        <p:spPr>
          <a:xfrm>
            <a:off x="2050920" y="5516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CEEE-FD5E-4905-8E2F-E114516456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732720" y="2349360"/>
            <a:ext cx="2232000" cy="1511280"/>
          </a:xfrm>
          <a:prstGeom prst="wedgeRoundRectCallout">
            <a:avLst>
              <a:gd name="adj1" fmla="val -199856"/>
              <a:gd name="adj2" fmla="val -32458"/>
              <a:gd name="adj3" fmla="val 16667"/>
            </a:avLst>
          </a:prstGeom>
          <a:solidFill>
            <a:srgbClr val="cc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случаях, если иное не предусмотрено федер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Arial Narrow"/>
              </a:rPr>
              <a:t>Вопросы, урегулированные в Методических рекомендациях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0200" y="1487520"/>
            <a:ext cx="6788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писание подходов к организации работы по составлению государственных заданий для казенных, бюджетных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 Narrow"/>
              </a:rPr>
              <a:t>автономных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учреждений, в т.ч.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200" spc="-1" strike="noStrike">
                <a:solidFill>
                  <a:srgbClr val="b2b2b2"/>
                </a:solidFill>
                <a:latin typeface="Arial Narrow"/>
              </a:rPr>
              <a:t>составлению и утверждению перечней государственных услуг (работ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2b2b2"/>
                </a:solidFill>
                <a:latin typeface="Arial Narrow"/>
              </a:rPr>
              <a:t>разработке и утверждению требований к качеству услуг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комендации по заполнению формы государственного задания (для услуг и работ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комендации по осуществлению контроля за выполнением государственного задания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2421000"/>
            <a:ext cx="2952720" cy="165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B33B-7F51-4B62-9F82-4EFA0A716C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1760" y="856800"/>
            <a:ext cx="7724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0" lang="ru-RU" sz="1700" spc="-1" strike="noStrike">
                <a:solidFill>
                  <a:srgbClr val="800000"/>
                </a:solidFill>
                <a:latin typeface="Arial Narrow"/>
                <a:ea typeface="Arial"/>
              </a:rPr>
              <a:t>Варианты утверждения перечня платных услуг</a:t>
            </a:r>
            <a:endParaRPr b="0" lang="en-US" sz="17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360360" y="2286000"/>
            <a:ext cx="8478720" cy="36435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1) учредитель формирует исчерпывающий перечень платных услуг для каждого подведомственного учрежд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2) учредитель формирует и утверждает единый исчерпывающий перечень платных услуг, а учреждение определяет какие услуги из данного перечня оно оказыва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3) учреждение формирует и утверждает перечень платных услуг по согласованию с учредител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4) учреждение самостоятельно  формирует и утверждает перечень платных услу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5E6C-F445-46F0-AC3B-E54168F238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Нормы законодательства РФ, регулирующие работу с </a:t>
            </a:r>
            <a:br>
              <a:rPr sz="2200"/>
            </a:b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государственными (муниципальными) заданиями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йствующие н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10160" y="141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Новые н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276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ый кодекс РФ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6, ст.69.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1844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ый кодекс РФ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6, ст.69.2, 78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565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автономных учреждениях» (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ст.4, ст.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3500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 некоммерческих организациях»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9.2, ст.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2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автономных учреждениях»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4, ст.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443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№83-ФЗ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81080" y="1413000"/>
            <a:ext cx="4105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840" y="1863720"/>
            <a:ext cx="1440" cy="14940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492280"/>
            <a:ext cx="2160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357720"/>
            <a:ext cx="2160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1628640"/>
            <a:ext cx="0" cy="29527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206064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270828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364500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458136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5008680"/>
            <a:ext cx="5184720" cy="183816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зменены: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организаций, для которых составляется госзад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госзад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я на включение в госзадание платных услу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9F8F-2600-4A8C-8A8A-17B5A0006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6720" y="3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0" lang="ru-RU" sz="1700" spc="-1" strike="noStrike">
                <a:solidFill>
                  <a:srgbClr val="800000"/>
                </a:solidFill>
                <a:latin typeface="Arial Narrow"/>
                <a:ea typeface="Arial"/>
              </a:rPr>
              <a:t>Варианты утверждения цен (тарифов) на платные услуги</a:t>
            </a:r>
            <a:endParaRPr b="0" lang="en-US" sz="17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85880" y="2104920"/>
            <a:ext cx="7643880" cy="42375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1) учредитель утверждает состав затрат и цены (тарифы) по каждой платной услуге, оказываемой подведомственными бюджетными учреждения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2) учредитель утверждает предельные цены (тарифы) на каждую платную услугу, оказываемую подведомственными бюджетными учреждения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3) бюджетное учреждение утверждает цены на оказываемые им платные услуги по согласованию с учредителе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4) бюджетное учреждение самостоятельно утверждает цены на оказываемые им платные услуг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E458-785A-4969-A66B-3174603FE1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642960" y="1428840"/>
          <a:ext cx="7643880" cy="4513320"/>
        </p:xfrm>
        <a:graphic>
          <a:graphicData uri="http://schemas.openxmlformats.org/drawingml/2006/table">
            <a:tbl>
              <a:tblPr/>
              <a:tblGrid>
                <a:gridCol w="1528920"/>
                <a:gridCol w="1528560"/>
                <a:gridCol w="1528920"/>
                <a:gridCol w="1528560"/>
                <a:gridCol w="1528920"/>
              </a:tblGrid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5d"/>
                          </a:solidFill>
                          <a:latin typeface="Arial Narrow"/>
                          <a:ea typeface="Arial"/>
                        </a:rPr>
                        <a:t>Переч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5d"/>
                          </a:solidFill>
                          <a:latin typeface="Arial Narrow"/>
                          <a:ea typeface="Arial"/>
                        </a:rPr>
                        <a:t>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- для каждого учреж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выбирает из перечня, утвержденного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по согласованию с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самостоя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- состав затрат и ц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 Narrow"/>
                          <a:ea typeface="Arial"/>
                        </a:rPr>
                        <a:t>Наиболее жесткий вариа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 - предельные ц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по согласованию с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самостоя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 Narrow"/>
                          <a:ea typeface="Arial"/>
                        </a:rPr>
                        <a:t>Наименее жесткий вариа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62" name="Прямоугольный треугольник 16"/>
          <p:cNvSpPr/>
          <p:nvPr/>
        </p:nvSpPr>
        <p:spPr>
          <a:xfrm>
            <a:off x="642960" y="1428840"/>
            <a:ext cx="1500120" cy="1285920"/>
          </a:xfrm>
          <a:prstGeom prst="rtTriangle">
            <a:avLst/>
          </a:prstGeom>
          <a:solidFill>
            <a:srgbClr val="00ff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Arial"/>
                <a:ea typeface="Arial"/>
              </a:rPr>
              <a:t>Це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Стрелка вправо 17"/>
          <p:cNvGrpSpPr/>
          <p:nvPr/>
        </p:nvGrpSpPr>
        <p:grpSpPr>
          <a:xfrm>
            <a:off x="2787480" y="2981160"/>
            <a:ext cx="4997160" cy="2791080"/>
            <a:chOff x="2787480" y="2981160"/>
            <a:chExt cx="4997160" cy="2791080"/>
          </a:xfrm>
        </p:grpSpPr>
        <p:pic>
          <p:nvPicPr>
            <p:cNvPr id="264" name="Стрелка вправо 17" descr=""/>
            <p:cNvPicPr/>
            <p:nvPr/>
          </p:nvPicPr>
          <p:blipFill>
            <a:blip r:embed="rId1"/>
            <a:stretch/>
          </p:blipFill>
          <p:spPr>
            <a:xfrm>
              <a:off x="2787480" y="2981160"/>
              <a:ext cx="4997160" cy="27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425600">
              <a:off x="2712960" y="3997440"/>
              <a:ext cx="4995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Box 18"/>
          <p:cNvSpPr/>
          <p:nvPr/>
        </p:nvSpPr>
        <p:spPr>
          <a:xfrm>
            <a:off x="421272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728460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571284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4284000" y="38577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2640960" y="3786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2712600" y="4643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5784120" y="38577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5"/>
          <p:cNvSpPr/>
          <p:nvPr/>
        </p:nvSpPr>
        <p:spPr>
          <a:xfrm>
            <a:off x="4212720" y="4714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7355880" y="3786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5784120" y="4643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7284600" y="4714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585576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264096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421272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4"/>
          <p:cNvSpPr/>
          <p:nvPr/>
        </p:nvSpPr>
        <p:spPr>
          <a:xfrm>
            <a:off x="3212640" y="30718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5"/>
          <p:cNvSpPr/>
          <p:nvPr/>
        </p:nvSpPr>
        <p:spPr>
          <a:xfrm>
            <a:off x="7713000" y="56437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E1F1-1751-4399-9845-9FB5FD3040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040" y="6919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"/>
              </a:rPr>
              <a:t>Уточнение формы госзадания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341360"/>
            <a:ext cx="820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69.2 БК 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(М)З должно содерж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2492280"/>
            <a:ext cx="1081080" cy="64260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ыписку из Р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349360"/>
            <a:ext cx="2808360" cy="146556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казатели, характеризующие состав, качество и (или) объем (содержание) оказываемых Г(М)У (выполняемых рабо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2205000"/>
            <a:ext cx="2160720" cy="157356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рядок контроля за исполнением Г(М)З, в том числе условия и порядок его досрочного прек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1628640"/>
            <a:ext cx="1549440" cy="119124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ребования к отчетности об исполнении Г(М)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959360"/>
            <a:ext cx="2952720" cy="146556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пределение категорий физических и (или) юридических лиц, являющихся потребителями соответствующих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5013360"/>
            <a:ext cx="1440000" cy="91692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рядок оказания услуг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4437000"/>
            <a:ext cx="3529080" cy="173988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едельные цены (тарифы) на оплату услуг либо порядок установления указанных цен (тарифов) </a:t>
            </a:r>
            <a:r>
              <a:rPr b="0" lang="ru-RU" sz="1800" spc="-1" strike="noStrike">
                <a:solidFill>
                  <a:srgbClr val="cc0000"/>
                </a:solidFill>
                <a:latin typeface="Arial Narrow"/>
              </a:rPr>
              <a:t>в случаях, установленных законодательством Р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( ПРОБЛЕМА)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7664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(М)З 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казание услуг так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о содерж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060640"/>
            <a:ext cx="0" cy="43164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2060640"/>
            <a:ext cx="0" cy="28872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1989000"/>
            <a:ext cx="259236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989000"/>
            <a:ext cx="0" cy="21780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844640"/>
            <a:ext cx="403200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4527720"/>
            <a:ext cx="0" cy="43164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4437000"/>
            <a:ext cx="0" cy="57456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221000"/>
            <a:ext cx="0" cy="21600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133720"/>
            <a:ext cx="1296720" cy="1295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3640" y="2133720"/>
            <a:ext cx="1223640" cy="1439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285264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26CC-893A-4560-AC2B-28A904439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"/>
              </a:rPr>
              <a:t>В государственное задание могут быть включены</a:t>
            </a:r>
            <a:r>
              <a:rPr b="1" lang="en-US" sz="2600" spc="-1" strike="noStrike">
                <a:solidFill>
                  <a:srgbClr val="514185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514185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атные услуги, если в федеральном законе предусмотрена возможность оказания их за пла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ИТ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(по отношению к подразумеваемому, но четко не определенному «стандарту») платные услуги, если в федеральном законе предусмотрена такая возможность (указана для образования, здравоохранения, библиотек, архивов…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те платные услуги, возможность оказания которых в рамках государственного зада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СРЕДСТВЕН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усмотрена федеральным закон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а данный момент отсутствуют, нужно ли вносить изменени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A5B9-087E-45E7-BE64-8B3A3FB998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Примеры федеральных законов, предусматривающих возможность оказания любых платных услуг</a:t>
            </a:r>
            <a:endParaRPr b="0" lang="en-US" sz="2400" spc="-1" strike="noStrike">
              <a:solidFill>
                <a:srgbClr val="514185"/>
              </a:solidFill>
              <a:latin typeface="Arial Narrow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00040" y="2276640"/>
          <a:ext cx="8286840" cy="3600000"/>
        </p:xfrm>
        <a:graphic>
          <a:graphicData uri="http://schemas.openxmlformats.org/drawingml/2006/table">
            <a:tbl>
              <a:tblPr/>
              <a:tblGrid>
                <a:gridCol w="1712880"/>
                <a:gridCol w="657396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сновы законодательства Российской Федерации 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ультуре» (№3612-1, ст. 52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Цены (тарифы) на платные услуги и продукцию, включая цены на билеты, организации культуры устанавливают самостоятель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Социальное обслуживание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основах социального обслуживания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в Российской Федерации»  (№ 195-ФЗ, ст. 15):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Социальное обслуживание осуществляется …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бесплатно и за плат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CA04-8E84-4AEB-82A2-A7463DD23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57120" y="78588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Times New Roman"/>
              </a:rPr>
              <a:t> </a:t>
            </a:r>
            <a:br>
              <a:rPr sz="3600"/>
            </a:b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Примеры федеральных законов, предусматривающие возможность оказания дополнительных платных усл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01B1-1209-420D-89C2-55A516DE57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928880"/>
          <a:ext cx="8429400" cy="4403520"/>
        </p:xfrm>
        <a:graphic>
          <a:graphicData uri="http://schemas.openxmlformats.org/drawingml/2006/table">
            <a:tbl>
              <a:tblPr/>
              <a:tblGrid>
                <a:gridCol w="2071440"/>
                <a:gridCol w="6357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образовании» (ст. 19, 41, 45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осударственное и муниципальное образователь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учреждения вправе оказывать … плат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ДОПОЛНИТЕЛЬНЫЕ образовательные услу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Основы законодательства об охране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раждан (ст. 20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раждане имеют право на ДОПОЛНИТЕЛЬНЫЕ медицинские и иные услуги … за счет средств предприятий, учреждений и организаций, своих личных средств и иных источ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Библиотечное обслужи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 библиотечном деле»  (№78-ФЗ, ст. 7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В общедоступных библиотеках граждане имеют право…пользоваться ДРУГИМИ видами услуг, в том числе платными, перечень которых определяется правилами пользования библиоте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Архивное де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архивном деле»  (№ 125-ФЗ, ст. 26):</a:t>
                      </a:r>
                      <a:r>
                        <a:rPr b="0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…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архивы, музеи, библиотеки, а также государственные и муниципальные организации могут… оказывать пользователю архивными документами платные ИНФОРМАЦИОННЫЕ услуги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EEAE-C7FD-46CA-94BF-E13EF4820C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Предложение</a:t>
            </a:r>
            <a:r>
              <a:rPr b="1" lang="en-US" sz="2600" spc="-1" strike="noStrike">
                <a:solidFill>
                  <a:srgbClr val="514185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1920" y="1413000"/>
            <a:ext cx="8488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 ВКЛЮЧАТЬ В ГОСУДАРСТВЕННОЕ ЗАДАНИЕ НИКАКИЕ ПЛАТНЫЕ УСЛУГИ И НЕ ВНОСИТЬ ИЗМЕНЕНИЯ В ЗАКОНЫ, ПОЗВОЛЯЮЩИЕ ЭТО ДЕЛА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ждая платная услуга –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тдельная услуг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в том числе четко отделенная от основной (оказываемой в рамках госзадания) услуги (включая более комфортные условия их оказания, дополнительные расходные материалы, более высокая квалификация персонала и т.д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ля учреждений культуры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едметом госзадания (услугой) являются результаты деятельности учреждения (постановки, экспозиции, экскурсии, сохранность и доступность фондов и т.д.), а число посетителей – лишь один из показателей их качества (не планируется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7910-7AC7-4551-837A-114D9B01F6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Полномочия по регулированию порядка формирования и финансового обеспечения госзадания (на федеральном уровне)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1484280"/>
            <a:ext cx="395928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ределение порядка формирования и финансового обеспечения (общие требования) – постановления № 1065 от 29.12.2008 (новая редакция) и № 182 от 18.03.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фин и Минэконом-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рекомендации по расчету нормативных затрат (приказы 105н от 22.10.2009 и 134 от 17.04.2009 (с учетом поправок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фин и Минэконом-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рекомендации по формированию и финансовому обеспечению госзаданий (совместный приказ, нов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2781360"/>
            <a:ext cx="352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Министерства – базовые (отраслевые) перечни гос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ФОИВ -  ведомственные перечни госуслуг, порядок формирования и финан-сового обеспечения госзаданий, утверждение госзаданий, контр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205000"/>
            <a:ext cx="433440" cy="4319640"/>
          </a:xfrm>
          <a:custGeom>
            <a:avLst/>
            <a:gdLst>
              <a:gd name="textAreaLeft" fmla="*/ 0 w 433440"/>
              <a:gd name="textAreaRight" fmla="*/ 156600 w 43344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001-CAA0-4863-8545-D6BC1D25D5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Организация работы с госзаданием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484280"/>
            <a:ext cx="856908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тверждение (уточнение) базового (отраслевого) перечня госуслуг – Министерства в сферах веден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ФОИВ для подведомственных госучреждений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чняет) ведомственный перечень госуслу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(уточняет) порядок определения расчетно-нормативных за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требования к качеству госуслу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порядок формирования и финансового обеспечения госзаданий (может включать пункты 2 и 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порядок осуществления контроля за выполнением госзадания (может быть объединен с пунктом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ует и утверждает госзадания, рассчитывает (в пределах бюджетных ассигнований) субсид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исляет в установленном порядке субсидии (в рамках кассового план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яет контроль за исполнением госзаданий (в т.ч. проводит проверку отчетност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D5CF-EF8A-41C8-8F33-3175954E05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user</cp:lastModifiedBy>
  <cp:lastPrinted>2009-06-02T16:42:35Z</cp:lastPrinted>
  <dcterms:modified xsi:type="dcterms:W3CDTF">2010-06-23T19:12:24Z</dcterms:modified>
  <cp:revision>985</cp:revision>
  <dc:subject/>
  <dc:title>No Slide Title</dc:title>
</cp:coreProperties>
</file>