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596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20880" y="744480"/>
            <a:ext cx="49687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909360" y="4719240"/>
            <a:ext cx="4987800" cy="447516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0" y="944244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5960" y="944244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ru-RU"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0FDA818-C133-4AD8-8239-34F458DF5C5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F989E85-5CB9-47AF-B5BC-E19CB2D5189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20880" y="744480"/>
            <a:ext cx="4968720" cy="3727440"/>
          </a:xfrm>
          <a:prstGeom prst="rect">
            <a:avLst/>
          </a:prstGeom>
          <a:ln w="0">
            <a:noFill/>
          </a:ln>
        </p:spPr>
      </p:sp>
      <p:sp>
        <p:nvSpPr>
          <p:cNvPr id="237"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A76A37-F06D-4325-951E-31C5B3204FD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0880" y="744480"/>
            <a:ext cx="4968720" cy="3727440"/>
          </a:xfrm>
          <a:prstGeom prst="rect">
            <a:avLst/>
          </a:prstGeom>
          <a:ln w="0">
            <a:noFill/>
          </a:ln>
        </p:spPr>
      </p:sp>
      <p:sp>
        <p:nvSpPr>
          <p:cNvPr id="240"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74C43-E3A0-4133-B33F-9DEAE134E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939E2-1FB9-41C5-BC35-CD144EE76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7E63E-6EF9-424A-BFBC-54A47214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A2737-7E75-4326-88FF-E960749D4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C38B2-211F-41F4-8F6A-90AEC5E11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7170A-D803-498A-8002-AF4B00A9D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19448-6169-413D-B115-EDD58D6E4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06248-FC05-409B-A504-CEDF572A6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9C053-3158-4EFC-8D01-294F82FAD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580B3-7AB3-4192-A577-626E7ABA5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755B-8CD6-455B-AD5D-A84C185A3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702F2-3CE3-4940-A483-0B60CB4B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057B7-0D6A-4782-A03D-966A60CF9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ECA0-89BE-41B5-A70C-41B174C2E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EF4F-DE85-45AC-90C0-3E61DA030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1C34E-43F1-4878-80B8-B8535115F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9E9C6-0E28-4776-8CA8-71A121E11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9B7312-8FA3-4F8D-8E39-8FFA532920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51401F-50F9-4811-95F5-9FC07DBBCC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CB571B-76DD-41F7-AA83-1A839B7948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515397-512C-44B3-B8BE-8E64D83086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6B8019-53C0-4992-955C-41B50E5080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3347-63EB-4FBF-8EB7-8B7C5CC5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9ECF13-DC89-4612-9116-DE44A6B338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76E8B3-8FBC-45C6-AAC7-ECDE71221D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E9679C-4146-4052-A6BD-43B753F053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22A8DC-16BE-4DAC-8A5A-16CC2D7720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C13F58-D632-41A8-BB6A-FFDA1424F7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FF6541-7FC1-43D7-BF71-2B327629A1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56F8EB-AEC8-4E27-98B4-75CA319A68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4BA1-BD70-4C16-8712-5141B95A0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6608A-7919-4607-8743-FB50A7A4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D6EA1-8ECC-4024-8893-3DEF163D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D39E-EA3C-43DC-A7AD-43C43581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9B7F-B730-4D24-8EC8-2320B659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4338-A44A-4C10-8498-5D7291BEB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3B7C-D800-4F70-95AB-E8A1C49D631D}"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1FDC6C02-0C2A-439E-B8A3-C469113E72F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D1B0-CA34-411C-B947-E987E6CDB64A}"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4C62-B55F-4EE7-9AB9-20E6D0148AD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69A9-C964-49BD-8799-BF650D750DB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AAF5-5425-4E5A-B6E1-9CEE6954987D}" type="datetime">
              <a:rPr b="0" lang="ru-RU" sz="1400" spc="-1" strike="noStrike">
                <a:solidFill>
                  <a:srgbClr val="ffffff"/>
                </a:solidFill>
                <a:latin typeface="Times New Roman"/>
              </a:rPr>
              <a:t>31.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325080" cy="6381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МИФЫ и РЕАЛЬНОСТЬ</a:t>
            </a:r>
            <a:r>
              <a:rPr b="0" lang="ru-RU" sz="3600" spc="-1" strike="noStrike">
                <a:solidFill>
                  <a:srgbClr val="ffffff"/>
                </a:solidFill>
                <a:latin typeface="Times New Roman"/>
              </a:rPr>
              <a:t>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Федеральном законе от 8 мая 2010 г. № 83-ФЗ</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268280"/>
            <a:ext cx="406728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деятельности бюджетных учреждений осуществляется по смете. В итоге они  заинтересованы просто потратить бюджетные деньги </a:t>
            </a:r>
            <a:r>
              <a:rPr b="1" lang="ru-RU" sz="1700" spc="-1" strike="noStrike">
                <a:solidFill>
                  <a:srgbClr val="ff0000"/>
                </a:solidFill>
                <a:latin typeface="Times New Roman"/>
              </a:rPr>
              <a:t>до конца финансового года</a:t>
            </a:r>
            <a:r>
              <a:rPr b="0" lang="ru-RU" sz="1700" spc="-1" strike="noStrike">
                <a:solidFill>
                  <a:srgbClr val="000000"/>
                </a:solidFill>
                <a:latin typeface="Times New Roman"/>
              </a:rPr>
              <a:t> и обосновать увеличение сметы на следующий год. </a:t>
            </a:r>
            <a:endParaRPr b="0" lang="en-US" sz="17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Связь финансирования и результатов деятельности учреждения напрямую отсутствует, осуществляется содержание действующей сети учреждений, а не объема услуг (ст. 161, 221 БК РФ).</a:t>
            </a:r>
            <a:endParaRPr b="0" lang="en-US" sz="1700" spc="-1" strike="noStrike">
              <a:solidFill>
                <a:srgbClr val="000000"/>
              </a:solidFill>
              <a:latin typeface="Times New Roman"/>
            </a:endParaRPr>
          </a:p>
        </p:txBody>
      </p:sp>
      <p:sp>
        <p:nvSpPr>
          <p:cNvPr id="17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Федеральный закон не повысит качество услуг для граждан, а также заинтересованность бюджетных учреждений в результатах своей деятельности»</a:t>
            </a:r>
            <a:endParaRPr b="0" lang="en-US" sz="2400" spc="-1" strike="noStrike">
              <a:solidFill>
                <a:srgbClr val="514185"/>
              </a:solidFill>
              <a:latin typeface="Times New Roman"/>
            </a:endParaRPr>
          </a:p>
        </p:txBody>
      </p:sp>
      <p:sp>
        <p:nvSpPr>
          <p:cNvPr id="176" name="Rectangle 4"/>
          <p:cNvSpPr/>
          <p:nvPr/>
        </p:nvSpPr>
        <p:spPr>
          <a:xfrm>
            <a:off x="316872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3995640" y="1268280"/>
            <a:ext cx="5148360" cy="4464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выполнения госзадания осуществляется путем предоставления субсидии на его выполнение. Госзадание устанавливает показатели эффективности, объема, категории получателей госуслуги и результаты от оказания услуг, таким образом устанавливается связь между финансовым обеспечением учреждения и качеством (результатом) его работы.</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Не использованные до конца финансового года остатки субсидий, предоставленных бюджетному учреждению на выполнение госзадания, </a:t>
            </a:r>
            <a:r>
              <a:rPr b="1" lang="ru-RU" sz="1700" spc="-1" strike="noStrike">
                <a:solidFill>
                  <a:srgbClr val="ff0000"/>
                </a:solidFill>
                <a:latin typeface="Times New Roman"/>
              </a:rPr>
              <a:t>остаются </a:t>
            </a:r>
            <a:r>
              <a:rPr b="0" lang="ru-RU" sz="1700" spc="-1" strike="noStrike">
                <a:solidFill>
                  <a:srgbClr val="000000"/>
                </a:solidFill>
                <a:latin typeface="Times New Roman"/>
              </a:rPr>
              <a:t>в распоряжении бюджетного учреждения (п. 10 ст. 19 Закона № 83-ФЗ).</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Rectangle 10"/>
          <p:cNvSpPr/>
          <p:nvPr/>
        </p:nvSpPr>
        <p:spPr>
          <a:xfrm>
            <a:off x="0" y="587700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ИНАНСОВОЕ ОБЕСПЕЧЕНИЕ УВЯЗЫВАЕТСЯ С РЕЗУЛЬТАТОМ И ПОКАЗАТЕЛЯМИ ЭФФЕКТИВНОСТИ ОКАЗАНИЯ ГОСУСЛУГИ, СОЗДАЕТСЯ МОТИВАЦИИЯ ДЛЯ ЭКОНОМИИ СРЕДСТВ</a:t>
            </a:r>
            <a:endParaRPr b="0" lang="en-US" sz="1600" spc="-1" strike="noStrike">
              <a:solidFill>
                <a:srgbClr val="000000"/>
              </a:solidFill>
              <a:latin typeface="Arial"/>
            </a:endParaRPr>
          </a:p>
        </p:txBody>
      </p:sp>
      <p:sp>
        <p:nvSpPr>
          <p:cNvPr id="179"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инятие Федерального закона повлечет массовые увольнения»</a:t>
            </a:r>
            <a:endParaRPr b="0" lang="en-US" sz="2400" spc="-1" strike="noStrike">
              <a:solidFill>
                <a:srgbClr val="514185"/>
              </a:solidFill>
              <a:latin typeface="Times New Roman"/>
            </a:endParaRPr>
          </a:p>
        </p:txBody>
      </p:sp>
      <p:sp>
        <p:nvSpPr>
          <p:cNvPr id="181"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916280"/>
            <a:ext cx="9144000" cy="3816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 Федеральном законе </a:t>
            </a:r>
            <a:r>
              <a:rPr b="1" lang="ru-RU" sz="2600" spc="-1" strike="noStrike">
                <a:solidFill>
                  <a:srgbClr val="ff0000"/>
                </a:solidFill>
                <a:latin typeface="Times New Roman"/>
              </a:rPr>
              <a:t>прямо указано</a:t>
            </a:r>
            <a:r>
              <a:rPr b="0" lang="ru-RU" sz="2600" spc="-1" strike="noStrike">
                <a:solidFill>
                  <a:srgbClr val="000000"/>
                </a:solidFill>
                <a:latin typeface="Times New Roman"/>
              </a:rPr>
              <a:t>, что в связи с его принятием не требуется переназначение руководителей и работников казенных учреждений, созданных в соответствии с законом, и существующих бюджетных учреждений (п. 7 ст. 20 Закона № 83-ФЗ)</a:t>
            </a:r>
            <a:endParaRPr b="0" lang="en-US" sz="2600" spc="-1" strike="noStrike">
              <a:solidFill>
                <a:srgbClr val="000000"/>
              </a:solidFill>
              <a:latin typeface="Arial"/>
            </a:endParaRPr>
          </a:p>
        </p:txBody>
      </p:sp>
      <p:sp>
        <p:nvSpPr>
          <p:cNvPr id="183"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12500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ст. 161, 219 БК РФ).</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информация о деятельности бюджетного учреждения закрыта для общественности, так как законодательство не устанавливает нормы о публикации такой информации в открытом доступе. </a:t>
            </a:r>
            <a:endParaRPr b="0" lang="en-US" sz="1600" spc="-1" strike="noStrike">
              <a:solidFill>
                <a:srgbClr val="000000"/>
              </a:solidFill>
              <a:latin typeface="Times New Roman"/>
            </a:endParaRPr>
          </a:p>
        </p:txBody>
      </p:sp>
      <p:sp>
        <p:nvSpPr>
          <p:cNvPr id="18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Средства бюджета, попав в новые бюджетные учреждения, перестанут контролироваться их использование не будет прозрачным»</a:t>
            </a:r>
            <a:endParaRPr b="0" lang="en-US" sz="2400" spc="-1" strike="noStrike">
              <a:solidFill>
                <a:srgbClr val="514185"/>
              </a:solidFill>
              <a:latin typeface="Times New Roman"/>
            </a:endParaRPr>
          </a:p>
        </p:txBody>
      </p:sp>
      <p:sp>
        <p:nvSpPr>
          <p:cNvPr id="186"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492360" y="1125360"/>
            <a:ext cx="5651640" cy="410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 </a:t>
            </a:r>
            <a:r>
              <a:rPr b="1" lang="ru-RU" sz="1500" spc="-1" strike="noStrike" u="sng">
                <a:solidFill>
                  <a:srgbClr val="ff0000"/>
                </a:solidFill>
                <a:uFillTx/>
                <a:latin typeface="Times New Roman"/>
              </a:rPr>
              <a:t>КАК СТАНЕТ: </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Счета по прежнему будут открыты в Федеральном казначействе или финансовом органе, таким образом, хоть санкционирования за использованием субсидии на госзадание не предусматривается, но содержание операции становится видным, в том числе и для проверяющих.</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в открытом доступе в сети Интернет публикуются следующие сведения об учреждениях:</a:t>
            </a:r>
            <a:endParaRPr b="0" lang="en-US" sz="15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1) Юридические документы - учредительные документы; свидетельство о государственной регистрации; решение учредителя о создании; решение учредителя о назначении руководителя; положения о филиалах, представительствах;</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2) Финансовые документы - план финансово-хозяйственной деятельности; годовая бухгалтерская отчетность; сведения о проведенных в отношении учреждения контрольных мероприятиях и их результатах; госзадание на оказание услуг (выполнение работ); отчет о результатах деятельности и об использовании закрепленного госимущества      (ст. 32 Закона «О некоммерческих организациях»).</a:t>
            </a:r>
            <a:endParaRPr b="0" lang="en-US" sz="1400" spc="-1" strike="noStrike">
              <a:solidFill>
                <a:srgbClr val="000000"/>
              </a:solidFill>
              <a:latin typeface="Arial"/>
            </a:endParaRPr>
          </a:p>
        </p:txBody>
      </p:sp>
      <p:sp>
        <p:nvSpPr>
          <p:cNvPr id="188" name="Rectangle 7"/>
          <p:cNvSpPr/>
          <p:nvPr/>
        </p:nvSpPr>
        <p:spPr>
          <a:xfrm>
            <a:off x="0" y="6093000"/>
            <a:ext cx="91440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ЕЯТЕЛЬНОСТЬ БЮДЖЕТНЫХ УЧРЕЖДЕНИЙ СТАНЕТ НАМНОГО ПРОЗРАЧНЕЕ ДЛЯ ОБЩЕСТВЕННОГО КОНТРОЛЯ</a:t>
            </a:r>
            <a:endParaRPr b="0" lang="en-US" sz="1800" spc="-1" strike="noStrike">
              <a:solidFill>
                <a:srgbClr val="000000"/>
              </a:solidFill>
              <a:latin typeface="Arial"/>
            </a:endParaRPr>
          </a:p>
        </p:txBody>
      </p:sp>
      <p:sp>
        <p:nvSpPr>
          <p:cNvPr id="189"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аспределение госзаданий приведет к повышению коррупции»</a:t>
            </a:r>
            <a:endParaRPr b="0" lang="en-US" sz="2400" spc="-1" strike="noStrike">
              <a:solidFill>
                <a:srgbClr val="514185"/>
              </a:solidFill>
              <a:latin typeface="Times New Roman"/>
            </a:endParaRPr>
          </a:p>
        </p:txBody>
      </p:sp>
      <p:sp>
        <p:nvSpPr>
          <p:cNvPr id="191" name="Rectangle 3"/>
          <p:cNvSpPr/>
          <p:nvPr/>
        </p:nvSpPr>
        <p:spPr>
          <a:xfrm>
            <a:off x="0" y="1052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Коррупциогенный фактор создается не в процессе формирования сметы или госзадания, а в результате отсутствия прозрачности и нечеткости административных процедур.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Федеральный закон направлен на повышение публичности и открытости деятельности бюджетных учреждений (ст. 32 Закона «О некоммерческих организациях»)</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В бюджетной смете утверждается объем финансового обеспечения, в госзадании утверждается не только объем субсидии на его выполнение, но и устанавливаются показатели эффективности (ст. 69.2 БК РФ). </a:t>
            </a:r>
            <a:endParaRPr b="0" lang="en-US" sz="2400" spc="-1" strike="noStrike">
              <a:solidFill>
                <a:srgbClr val="000000"/>
              </a:solidFill>
              <a:latin typeface="Arial"/>
            </a:endParaRPr>
          </a:p>
        </p:txBody>
      </p:sp>
      <p:sp>
        <p:nvSpPr>
          <p:cNvPr id="192" name="Rectangle 4"/>
          <p:cNvSpPr/>
          <p:nvPr/>
        </p:nvSpPr>
        <p:spPr>
          <a:xfrm>
            <a:off x="0" y="6021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ФЕДЕРАЛЬНЫЙ ЗАКОН НЕ СОЗДАЕТ  КОРРУПЦИОГЕННЫХ НОРМ</a:t>
            </a:r>
            <a:endParaRPr b="0" lang="en-US" sz="1800" spc="-1" strike="noStrike">
              <a:solidFill>
                <a:srgbClr val="000000"/>
              </a:solidFill>
              <a:latin typeface="Arial"/>
            </a:endParaRPr>
          </a:p>
        </p:txBody>
      </p:sp>
      <p:sp>
        <p:nvSpPr>
          <p:cNvPr id="193"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59920"/>
            <a:ext cx="9144000" cy="1081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уководители новых бюджетных учреждений станут полновластными хозяевами бюджетных учреждений, не подконтрольными никому»</a:t>
            </a:r>
            <a:endParaRPr b="0" lang="en-US" sz="2400" spc="-1" strike="noStrike">
              <a:solidFill>
                <a:srgbClr val="514185"/>
              </a:solidFill>
              <a:latin typeface="Times New Roman"/>
            </a:endParaRPr>
          </a:p>
        </p:txBody>
      </p:sp>
      <p:sp>
        <p:nvSpPr>
          <p:cNvPr id="19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0" y="1268280"/>
            <a:ext cx="9144000" cy="44625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Кроме предусмотренной в настоящее время законодательством РФ ответственности (административной, уголовной) руководитель несет также </a:t>
            </a:r>
            <a:r>
              <a:rPr b="1" lang="ru-RU" sz="1800" spc="-1" strike="noStrike">
                <a:solidFill>
                  <a:srgbClr val="ff0000"/>
                </a:solidFill>
                <a:latin typeface="Times New Roman"/>
              </a:rPr>
              <a:t>персональную ответственность</a:t>
            </a:r>
            <a:r>
              <a:rPr b="0" lang="ru-RU" sz="1800" spc="-1" strike="noStrike">
                <a:solidFill>
                  <a:srgbClr val="000000"/>
                </a:solidFill>
                <a:latin typeface="Times New Roman"/>
              </a:rPr>
              <a:t> за просроченную кредиторскую задолженность бюджетного учреждения, превышающую предельно допустимые значения, установленную органом, осуществляющим функции и полномочия учредителя, за превышение которой трудовой договор с ним может быть расторгнут в одностороннем порядке (п. 6 ст. 19 Закона № 83-ФЗ)</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Руководитель бюджетного учреждения несет перед бюджетным учреждение ответственность в размере убытков, причиненных в результате совершения крупной сделки, в случае если эта сделка не была предварительно согласована с учредителем (п.12 ст. 9.2 Закона «О некоммерческих организациях»)</a:t>
            </a:r>
            <a:endParaRPr b="0" lang="en-US" sz="1800" spc="-1" strike="noStrike">
              <a:solidFill>
                <a:srgbClr val="000000"/>
              </a:solidFill>
              <a:latin typeface="Arial"/>
            </a:endParaRPr>
          </a:p>
        </p:txBody>
      </p:sp>
      <p:sp>
        <p:nvSpPr>
          <p:cNvPr id="197" name="Rectangle 6"/>
          <p:cNvSpPr/>
          <p:nvPr/>
        </p:nvSpPr>
        <p:spPr>
          <a:xfrm>
            <a:off x="0" y="5013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 ПРОСРОЧЕННУЮ КРЕДИТОРСКУЮ ЗАДОЛЖЕННОСТЬ – УВОЛЬНЕНИЕ, ЗА УБЫТОК – ВЗЫСКАНИЕ В РАЗМЕРЕ УБЫТКА</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СТАНОВЛЕНИЕ УКАЗАННЫХ НОРМ ТРЕБУЕТ ОТ УЧРЕДИТЕЛЯ БЮДЖЕТНОГО УЧРЕЖДЕНИЯ ПОСТОЯННОГО МОНИТОРИНГА ФИНАНСОВОГО СОСТОЯНИЯ БЮДЖЕТНОГО УЧРЕЖДЕНИЯ</a:t>
            </a:r>
            <a:endParaRPr b="0" lang="en-US" sz="1600" spc="-1" strike="noStrike">
              <a:solidFill>
                <a:srgbClr val="000000"/>
              </a:solidFill>
              <a:latin typeface="Arial"/>
            </a:endParaRPr>
          </a:p>
        </p:txBody>
      </p:sp>
      <p:sp>
        <p:nvSpPr>
          <p:cNvPr id="198"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ВУЗы, предоставляющие услуги населению, во всех странах создаются в форме традиционных бюджетных учреждений со сметой и субсидиарной ответственностью государства»</a:t>
            </a:r>
            <a:endParaRPr b="0" lang="en-US" sz="2000" spc="-1" strike="noStrike">
              <a:solidFill>
                <a:srgbClr val="514185"/>
              </a:solidFill>
              <a:latin typeface="Times New Roman"/>
            </a:endParaRPr>
          </a:p>
        </p:txBody>
      </p:sp>
      <p:sp>
        <p:nvSpPr>
          <p:cNvPr id="200" name="Rectangle 4"/>
          <p:cNvSpPr/>
          <p:nvPr/>
        </p:nvSpPr>
        <p:spPr>
          <a:xfrm>
            <a:off x="0" y="1052640"/>
            <a:ext cx="9144000" cy="417672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600" spc="-1" strike="noStrike" u="sng">
                <a:solidFill>
                  <a:srgbClr val="ff0000"/>
                </a:solidFill>
                <a:uFillTx/>
                <a:latin typeface="Times New Roman"/>
              </a:rPr>
              <a:t>Австралия и Великобритания: </a:t>
            </a:r>
            <a:r>
              <a:rPr b="0" lang="ru-RU" sz="1600" spc="-1" strike="noStrike">
                <a:solidFill>
                  <a:srgbClr val="000000"/>
                </a:solidFill>
                <a:latin typeface="Times New Roman"/>
              </a:rPr>
              <a:t>ВУЗы получают финансовое обеспечение из общественных фондов, исходя из объемов приема студентов, которые располагают правом на обучение (ваучером). В 2008-2009 году 40% от общего объема доходов поступило от сторонних спонсоров, 23 % из госбюджет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Индия: </a:t>
            </a:r>
            <a:r>
              <a:rPr b="0" lang="ru-RU" sz="1600" spc="-1" strike="noStrike">
                <a:solidFill>
                  <a:srgbClr val="000000"/>
                </a:solidFill>
                <a:latin typeface="Times New Roman"/>
              </a:rPr>
              <a:t>предоставление финансовых ресурсов «общей суммой» или «блочным» грантом плюс предоставление средств исходя из численности приема студенто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олландия: </a:t>
            </a:r>
            <a:r>
              <a:rPr b="0" lang="ru-RU" sz="1600" spc="-1" strike="noStrike">
                <a:solidFill>
                  <a:srgbClr val="000000"/>
                </a:solidFill>
                <a:latin typeface="Times New Roman"/>
              </a:rPr>
              <a:t>концепция автономии университетов: министерство вмешивается в дела университетов только в крайних случаях, функционирует гибкая система финансового обеспечения, основанная на показателях эффективности;</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1" lang="ru-RU" sz="1600" spc="-1" strike="noStrike" u="sng">
                <a:solidFill>
                  <a:srgbClr val="ff0000"/>
                </a:solidFill>
                <a:uFillTx/>
                <a:latin typeface="Times New Roman"/>
              </a:rPr>
              <a:t>Швеция: </a:t>
            </a:r>
            <a:r>
              <a:rPr b="0" lang="ru-RU" sz="1600" spc="-1" strike="noStrike">
                <a:solidFill>
                  <a:srgbClr val="000000"/>
                </a:solidFill>
                <a:latin typeface="Times New Roman"/>
              </a:rPr>
              <a:t>управление системой образования основано на принципах децентрализации, учебные заведения самостоятельно распоряжаются материально-технической базой и вносят изменения в организационную структуру;</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ермания </a:t>
            </a:r>
            <a:r>
              <a:rPr b="0" lang="ru-RU" sz="1600" spc="-1" strike="noStrike">
                <a:solidFill>
                  <a:srgbClr val="000000"/>
                </a:solidFill>
                <a:latin typeface="Times New Roman"/>
              </a:rPr>
              <a:t>внедряется система финансового обеспечения оказания образовательных услуг университетами на основе показателей качества. Аналог субсидиарной ответственности существует, но эта система в настоящее время находится в стадии реформирования, направленного на предоставление самостоятельности ВУЗам.</a:t>
            </a:r>
            <a:endParaRPr b="0" lang="en-US" sz="1600" spc="-1" strike="noStrike">
              <a:solidFill>
                <a:srgbClr val="000000"/>
              </a:solidFill>
              <a:latin typeface="Arial"/>
            </a:endParaRPr>
          </a:p>
        </p:txBody>
      </p:sp>
      <p:sp>
        <p:nvSpPr>
          <p:cNvPr id="201" name="Rectangle 5"/>
          <p:cNvSpPr/>
          <p:nvPr/>
        </p:nvSpPr>
        <p:spPr>
          <a:xfrm>
            <a:off x="0" y="5445000"/>
            <a:ext cx="9144000" cy="40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ОЛЬШИНСТВЕ ЗАРУБЕЖНЫХ ГОСУДАРСТВ НЕТ СУБСИДИАРНОЙ ОТВЕТСТВЕННОСТИ ГОСУДАРСТВА, И ИСПОЛЬЗУЕТСЯ ПРИНЦИП АВТОНОМИИ ВУЗов</a:t>
            </a:r>
            <a:endParaRPr b="0" lang="en-US" sz="1600" spc="-1" strike="noStrike">
              <a:solidFill>
                <a:srgbClr val="000000"/>
              </a:solidFill>
              <a:latin typeface="Arial"/>
            </a:endParaRPr>
          </a:p>
        </p:txBody>
      </p:sp>
      <p:sp>
        <p:nvSpPr>
          <p:cNvPr id="202"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1125000"/>
            <a:ext cx="327672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1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юджетные ассигнования на содержание бюджетных учреждений предусмотрены законами (решениями) о бюджете (ст. 69.1 БК РФ)</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оизойдет урезание денежного содержания большинства бюджетных учреждений»</a:t>
            </a:r>
            <a:endParaRPr b="0" lang="en-US" sz="2400" spc="-1" strike="noStrike">
              <a:solidFill>
                <a:srgbClr val="514185"/>
              </a:solidFill>
              <a:latin typeface="Times New Roman"/>
            </a:endParaRPr>
          </a:p>
        </p:txBody>
      </p:sp>
      <p:sp>
        <p:nvSpPr>
          <p:cNvPr id="20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3276720" y="1052640"/>
            <a:ext cx="5867280" cy="4032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КАК СТАНЕТ:</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Бюджетные ассигнования на субсидии бюджетным учреждениям будут предусмотрены законами (решениями) о бюджете (ст. 69.1 БК РФ)</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ервоначальные нормативы затрат на оказание бюджетным учреждением услуг физическим или юридическим лицам определяются федеральным органом исполнительной власти в отношении подведомственных ему учреждений исходя из размера бюджетных ассигнований, выделенных бюджетному учреждению в 2010 году (п. 8 ст.31 83-ФЗ).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сохранении объема оказанных учреждением услуг размер финансирования учреждения из бюджета не уменьшится, изменится лишь способ доведения денег – не по смете, а через субсидию на гос.задание.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Кроме того, уменьшение объема субсидии на гос.задание в течение срока его выполнения осуществляется только при соответствующем изменении гос.задания (п. 3 ст. 9.2 Закона «О некоммерческих организациях»).</a:t>
            </a:r>
            <a:endParaRPr b="0" lang="en-US" sz="1500" spc="-1" strike="noStrike">
              <a:solidFill>
                <a:srgbClr val="000000"/>
              </a:solidFill>
              <a:latin typeface="Arial"/>
            </a:endParaRPr>
          </a:p>
        </p:txBody>
      </p:sp>
      <p:sp>
        <p:nvSpPr>
          <p:cNvPr id="207" name="Rectangle 6"/>
          <p:cNvSpPr/>
          <p:nvPr/>
        </p:nvSpPr>
        <p:spPr>
          <a:xfrm>
            <a:off x="0" y="5877000"/>
            <a:ext cx="914400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формировании бюджета бюджетные ассигнования, предусмотренных на оказание государственных (муниципальных) услуг, не зависят от способа их оказания.</a:t>
            </a:r>
            <a:endParaRPr b="0" lang="en-US" sz="1800" spc="-1" strike="noStrike">
              <a:solidFill>
                <a:srgbClr val="000000"/>
              </a:solidFill>
              <a:latin typeface="Arial"/>
            </a:endParaRPr>
          </a:p>
        </p:txBody>
      </p:sp>
      <p:sp>
        <p:nvSpPr>
          <p:cNvPr id="208"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Школьникам оставят три бесплатных урока в неделю, за остальное придется платить»</a:t>
            </a:r>
            <a:endParaRPr b="0" lang="en-US" sz="2400" spc="-1" strike="noStrike">
              <a:solidFill>
                <a:srgbClr val="514185"/>
              </a:solidFill>
              <a:latin typeface="Times New Roman"/>
            </a:endParaRPr>
          </a:p>
        </p:txBody>
      </p:sp>
      <p:sp>
        <p:nvSpPr>
          <p:cNvPr id="210" name="Rectangle 3"/>
          <p:cNvSpPr/>
          <p:nvPr/>
        </p:nvSpPr>
        <p:spPr>
          <a:xfrm>
            <a:off x="0" y="836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1600" spc="-1" strike="noStrike">
                <a:solidFill>
                  <a:srgbClr val="000000"/>
                </a:solidFill>
                <a:latin typeface="Times New Roman"/>
              </a:rPr>
              <a:t>	</a:t>
            </a:r>
            <a:r>
              <a:rPr b="0" lang="ru-RU" sz="1800" spc="-1" strike="noStrike">
                <a:solidFill>
                  <a:srgbClr val="000000"/>
                </a:solidFill>
                <a:latin typeface="Times New Roman"/>
              </a:rPr>
              <a:t>Государственные задания в сфере образования формируются на основе федеральных стандартов и базисного учебного плана общего образования, в которых устанавливается как количество обязательных предметов так и количество обязательных часов на каждый предмет. К примеру, согласно базисному плану для 7-го класса для географии, истории, литературы и физики отведено по 2 урока в неделю, для русского и иностранного языка – по 3, для математики – 5 и др.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сь этот объем по прежнему будет бесплатным и полностью покрываться государственным заданием.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угое дело, если родителя захотят сверх гос.задания и базисного учебного плана проводить, к примеру, не 2 урока физики в неделю, а 3 или 4. Такую возможность школа может предоставить им платно, но во внеурочное время и не в ущерб выполнению гос.зад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определения платы за такие дополнительные услуги должен устанавливать учредитель (региональный или муниципальный департамент образов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лучае выявления формальных нарушений норм закона надо обращаться в </a:t>
            </a:r>
            <a:r>
              <a:rPr b="1" lang="ru-RU" sz="1800" spc="-1" strike="noStrike">
                <a:solidFill>
                  <a:srgbClr val="ff0000"/>
                </a:solidFill>
                <a:latin typeface="Times New Roman"/>
              </a:rPr>
              <a:t>прокуратуру</a:t>
            </a:r>
            <a:r>
              <a:rPr b="0" lang="ru-RU" sz="1800" spc="-1" strike="noStrike">
                <a:solidFill>
                  <a:srgbClr val="000000"/>
                </a:solidFill>
                <a:latin typeface="Times New Roman"/>
              </a:rPr>
              <a:t>, а в случаях, когда качество бесплатного образования, по мнению родителей, страдает от «платных» уроков, - </a:t>
            </a:r>
            <a:r>
              <a:rPr b="1" lang="ru-RU" sz="1800" spc="-1" strike="noStrike">
                <a:solidFill>
                  <a:srgbClr val="ff0000"/>
                </a:solidFill>
                <a:latin typeface="Times New Roman"/>
              </a:rPr>
              <a:t>в региональный департамент образования</a:t>
            </a:r>
            <a:r>
              <a:rPr b="0" lang="ru-RU" sz="1800" spc="-1" strike="noStrike">
                <a:solidFill>
                  <a:srgbClr val="000000"/>
                </a:solidFill>
                <a:latin typeface="Times New Roman"/>
              </a:rPr>
              <a:t>, осуществляющий в соответствии с законом «Об образовании» полномочия по контролю качества образования. </a:t>
            </a:r>
            <a:endParaRPr b="0" lang="en-US" sz="1800" spc="-1" strike="noStrike">
              <a:solidFill>
                <a:srgbClr val="000000"/>
              </a:solidFill>
              <a:latin typeface="Arial"/>
            </a:endParaRPr>
          </a:p>
        </p:txBody>
      </p:sp>
      <p:sp>
        <p:nvSpPr>
          <p:cNvPr id="211"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98064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171720"/>
            <a:ext cx="9144000" cy="1052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Конституционно закрепленные бесплатное здравоохранение и образование будут отменены»</a:t>
            </a:r>
            <a:endParaRPr b="0" lang="en-US" sz="2400" spc="-1" strike="noStrike">
              <a:solidFill>
                <a:srgbClr val="514185"/>
              </a:solidFill>
              <a:latin typeface="Times New Roman"/>
            </a:endParaRPr>
          </a:p>
        </p:txBody>
      </p:sp>
      <p:sp>
        <p:nvSpPr>
          <p:cNvPr id="21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3492360" y="836640"/>
            <a:ext cx="565164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 </a:t>
            </a:r>
            <a:r>
              <a:rPr b="1" lang="ru-RU" sz="1700" spc="-1" strike="noStrike" u="sng">
                <a:solidFill>
                  <a:srgbClr val="ff0000"/>
                </a:solidFill>
                <a:uFillTx/>
                <a:latin typeface="Times New Roman"/>
              </a:rPr>
              <a:t>КАК СТАНЕТ: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700" spc="-1" strike="noStrike">
                <a:solidFill>
                  <a:srgbClr val="ff0000"/>
                </a:solidFill>
                <a:latin typeface="Times New Roman"/>
              </a:rPr>
              <a:t>и</a:t>
            </a:r>
            <a:r>
              <a:rPr b="1" lang="ru-RU" sz="1700" spc="-1" strike="noStrike">
                <a:solidFill>
                  <a:srgbClr val="000000"/>
                </a:solidFill>
                <a:latin typeface="Times New Roman"/>
              </a:rPr>
              <a:t> </a:t>
            </a:r>
            <a:r>
              <a:rPr b="1" lang="ru-RU" sz="17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700" spc="-1" strike="noStrike">
                <a:solidFill>
                  <a:srgbClr val="ff0000"/>
                </a:solidFill>
                <a:latin typeface="Times New Roman"/>
              </a:rPr>
              <a:t> </a:t>
            </a:r>
            <a:r>
              <a:rPr b="0" lang="ru-RU" sz="1700" spc="-1" strike="noStrike">
                <a:solidFill>
                  <a:srgbClr val="000000"/>
                </a:solidFill>
                <a:latin typeface="Times New Roman"/>
              </a:rPr>
              <a:t>(ст. 298 ГК РФ, п. 4 ст. 9.2 Закона «О некоммерческих организациях»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a:t>
            </a:r>
            <a:endParaRPr b="0" lang="en-US" sz="1700" spc="-1" strike="noStrike">
              <a:solidFill>
                <a:srgbClr val="000000"/>
              </a:solidFill>
              <a:latin typeface="Arial"/>
            </a:endParaRPr>
          </a:p>
        </p:txBody>
      </p:sp>
      <p:sp>
        <p:nvSpPr>
          <p:cNvPr id="216" name="Rectangle 6"/>
          <p:cNvSpPr/>
          <p:nvPr/>
        </p:nvSpPr>
        <p:spPr>
          <a:xfrm>
            <a:off x="0" y="5229360"/>
            <a:ext cx="9144000" cy="136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гарантированных бесплатных социальных услуг и категории их получателей устанавливаются законодательством Российской Федерации.</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 не изменяет вышеназванных положений законодательства Российской Федерации, а наоборот ограничивает оказание платных услуг </a:t>
            </a:r>
            <a:r>
              <a:rPr b="1" lang="ru-RU" sz="1800" spc="-1" strike="noStrike">
                <a:solidFill>
                  <a:srgbClr val="ff0000"/>
                </a:solidFill>
                <a:latin typeface="Times New Roman"/>
              </a:rPr>
              <a:t>«только сверх задания»</a:t>
            </a:r>
            <a:endParaRPr b="0" lang="en-US" sz="1800" spc="-1" strike="noStrike">
              <a:solidFill>
                <a:srgbClr val="000000"/>
              </a:solidFill>
              <a:latin typeface="Arial"/>
            </a:endParaRPr>
          </a:p>
        </p:txBody>
      </p:sp>
      <p:sp>
        <p:nvSpPr>
          <p:cNvPr id="217"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60" y="1268280"/>
            <a:ext cx="3924360" cy="4176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rPr>
              <a:t>В НАСТОЯЩЕЕ ВРЕМЯ:</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Финансовое обеспечение выполнения функций бюджетных учреждений осуществляется за счет бюджетных ассигнования (ст. 69.1 БК РФ)</a:t>
            </a:r>
            <a:endParaRPr b="0" lang="en-US" sz="2000" spc="-1" strike="noStrike">
              <a:solidFill>
                <a:srgbClr val="000000"/>
              </a:solidFill>
              <a:latin typeface="Times New Roman"/>
            </a:endParaRPr>
          </a:p>
        </p:txBody>
      </p:sp>
      <p:sp>
        <p:nvSpPr>
          <p:cNvPr id="219" name="PlaceHolder 2"/>
          <p:cNvSpPr>
            <a:spLocks noGrp="1"/>
          </p:cNvSpPr>
          <p:nvPr>
            <p:ph type="title"/>
          </p:nvPr>
        </p:nvSpPr>
        <p:spPr>
          <a:xfrm>
            <a:off x="0" y="188640"/>
            <a:ext cx="9144000" cy="880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Не будет инвестиций в развитие бюджетных учреждений, они останутся «один на один» с внебюджетными доходами, получаемыми за счет населения»</a:t>
            </a:r>
            <a:endParaRPr b="0" lang="en-US" sz="2000" spc="-1" strike="noStrike">
              <a:solidFill>
                <a:srgbClr val="514185"/>
              </a:solidFill>
              <a:latin typeface="Times New Roman"/>
            </a:endParaRPr>
          </a:p>
        </p:txBody>
      </p:sp>
      <p:sp>
        <p:nvSpPr>
          <p:cNvPr id="22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924360" y="1197000"/>
            <a:ext cx="5219640" cy="331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Финансовое обеспечение выполнение госзадания бюджетным учреждением осуществляется в форме субсидии на госзадание с учетом расходов на содержание имущества</a:t>
            </a:r>
            <a:r>
              <a:rPr b="0" lang="ru-RU" sz="1800" spc="-1" strike="noStrike">
                <a:solidFill>
                  <a:srgbClr val="ff0000"/>
                </a:solidFill>
                <a:latin typeface="Times New Roman"/>
              </a:rPr>
              <a:t> </a:t>
            </a:r>
            <a:r>
              <a:rPr b="0" lang="ru-RU" sz="1800" spc="-1" strike="noStrike">
                <a:solidFill>
                  <a:srgbClr val="000000"/>
                </a:solidFill>
                <a:latin typeface="Times New Roman"/>
              </a:rPr>
              <a:t>(п. 6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ый распорядитель бюджетных средств может также предусмотреть субсидии на иные цели и бюджетные инвестиции  (ст. 78.1 и 79 БК РФ).</a:t>
            </a:r>
            <a:endParaRPr b="0" lang="en-US" sz="1800" spc="-1" strike="noStrike">
              <a:solidFill>
                <a:srgbClr val="000000"/>
              </a:solidFill>
              <a:latin typeface="Arial"/>
            </a:endParaRPr>
          </a:p>
        </p:txBody>
      </p:sp>
      <p:sp>
        <p:nvSpPr>
          <p:cNvPr id="222" name="Rectangle 6"/>
          <p:cNvSpPr/>
          <p:nvPr/>
        </p:nvSpPr>
        <p:spPr>
          <a:xfrm>
            <a:off x="0" y="5661000"/>
            <a:ext cx="9144000" cy="93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едеральный закон предусматривает вложение бюджетных инвестиций в развитие бюджетных учреждений</a:t>
            </a:r>
            <a:endParaRPr b="0" lang="en-US" sz="2000" spc="-1" strike="noStrike">
              <a:solidFill>
                <a:srgbClr val="000000"/>
              </a:solidFill>
              <a:latin typeface="Arial"/>
            </a:endParaRPr>
          </a:p>
        </p:txBody>
      </p:sp>
      <p:sp>
        <p:nvSpPr>
          <p:cNvPr id="223"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514185"/>
                </a:solidFill>
                <a:latin typeface="Times New Roman"/>
              </a:rPr>
              <a:t> </a:t>
            </a:r>
            <a:r>
              <a:rPr b="1" lang="ru-RU" sz="2400" spc="-1" strike="noStrike">
                <a:solidFill>
                  <a:srgbClr val="000000"/>
                </a:solidFill>
                <a:latin typeface="Times New Roman"/>
              </a:rPr>
              <a:t>«</a:t>
            </a:r>
            <a:r>
              <a:rPr b="1" i="1" lang="ru-RU" sz="2000" spc="-1" strike="noStrike">
                <a:solidFill>
                  <a:srgbClr val="000000"/>
                </a:solidFill>
                <a:latin typeface="Times New Roman"/>
              </a:rPr>
              <a:t>Обсуждение Федерального закона шла тихо, не обеспечена необходимая гласность и открытость»</a:t>
            </a:r>
            <a:endParaRPr b="0" lang="en-US" sz="2000" spc="-1" strike="noStrike">
              <a:solidFill>
                <a:srgbClr val="514185"/>
              </a:solidFill>
              <a:latin typeface="Times New Roman"/>
            </a:endParaRPr>
          </a:p>
        </p:txBody>
      </p:sp>
      <p:sp>
        <p:nvSpPr>
          <p:cNvPr id="133" name="Rectangle 5"/>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4"/>
          <p:cNvSpPr/>
          <p:nvPr/>
        </p:nvSpPr>
        <p:spPr>
          <a:xfrm>
            <a:off x="0" y="907920"/>
            <a:ext cx="9144000" cy="53294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Данное утверждение не соответствует действительности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ка Федерального закона была предусмотре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Концепцией развития гражданского законодательства Российской Федерации, одобренной решением Совета при Президенте РФ по кодификации и совершенствованию гражданского законодательства от 07.10.2009,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ланом мероприятий по совершенствованию государственного управления в 2009 - 2010 годах, утвержденным распоряжением Правительства РФ от 03.12.2009 № 1862-р.</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Бюджетном послании 25 мая 2009 г. Президентом Российской Федерации Федеральному Собранию была поставлена задача совершенствования правового положения государственных (муниципальных) учреждений.</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см. слайд 2.1)</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Закон принудительно и массово «выталкивает» почти все учреждения субъектов РФ и муниципальные учреждения на «самоокупаемость»</a:t>
            </a:r>
            <a:endParaRPr b="0" lang="en-US" sz="2400" spc="-1" strike="noStrike">
              <a:solidFill>
                <a:srgbClr val="514185"/>
              </a:solidFill>
              <a:latin typeface="Times New Roman"/>
            </a:endParaRPr>
          </a:p>
        </p:txBody>
      </p:sp>
      <p:sp>
        <p:nvSpPr>
          <p:cNvPr id="225" name="Rectangle 3"/>
          <p:cNvSpPr/>
          <p:nvPr/>
        </p:nvSpPr>
        <p:spPr>
          <a:xfrm>
            <a:off x="0" y="90792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ъекты РФ и муниципальные образования согласно Федеральному закону в полной мере самостоятельно определяют (п. 2 ст. 31 Закона 83-ФЗ):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какие учреждения переведут в казенные, какие оставят в статусе бюджетных;</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 процедуры, этапы и сроки реформирования бюджетной сети в течение переходного периода (до 1.07.2012 г.).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им образом, Федеральный закон, не заставляет переводить все учреждения в правовой статус "нового" бюджетного учреждения, указанные учреждения также могут остаться и казенными. При этом  решение всех вопросов о системе  региональных и муниципальных учреждений по прежнему находиться в компетенции соответственно субъектов РФ и муниципальных образований. </a:t>
            </a:r>
            <a:endParaRPr b="0" lang="en-US" sz="2400" spc="-1" strike="noStrike">
              <a:solidFill>
                <a:srgbClr val="000000"/>
              </a:solidFill>
              <a:latin typeface="Arial"/>
            </a:endParaRPr>
          </a:p>
        </p:txBody>
      </p:sp>
      <p:sp>
        <p:nvSpPr>
          <p:cNvPr id="226"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718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Малокомплектные сельские школы и сельские больницы будут вынуждены закрыться, так как госзадание будет минимальным из-за маленького объема оказываемых услуг, а возможности для заработка и оказания платных услуг на селе минимальны из-за низкой платежеспособности населения»</a:t>
            </a:r>
            <a:endParaRPr b="0" lang="en-US" sz="2400" spc="-1" strike="noStrike">
              <a:solidFill>
                <a:srgbClr val="514185"/>
              </a:solidFill>
              <a:latin typeface="Times New Roman"/>
            </a:endParaRPr>
          </a:p>
        </p:txBody>
      </p:sp>
      <p:sp>
        <p:nvSpPr>
          <p:cNvPr id="228" name="Rectangle 3"/>
          <p:cNvSpPr/>
          <p:nvPr/>
        </p:nvSpPr>
        <p:spPr>
          <a:xfrm>
            <a:off x="0" y="191628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600" spc="-1" strike="noStrike">
                <a:solidFill>
                  <a:srgbClr val="000000"/>
                </a:solidFill>
                <a:latin typeface="Times New Roman"/>
              </a:rPr>
              <a:t>Закон передает решение всех вопросов о региональной и муниципальной бюджетной сети субъектам РФ и муниципальным образованиям (п. 2 ст. 31 Закона 83-ФЗ).</a:t>
            </a:r>
            <a:endParaRPr b="0" lang="en-US" sz="26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оответственно, указанные малокомплектные школы или сельские больницы без внебюджетных доходов возможно  перевести по упрощенной процедуре в казенные учреждения, и для них ничего не изменится - они будут продолжать жить по смете, как живут сейчас.</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33360"/>
            <a:ext cx="9144000" cy="719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В России нет позитивного опыта реализации экспериментов подобного рода в регионах»</a:t>
            </a:r>
            <a:endParaRPr b="0" lang="en-US" sz="2400" spc="-1" strike="noStrike">
              <a:solidFill>
                <a:srgbClr val="514185"/>
              </a:solidFill>
              <a:latin typeface="Times New Roman"/>
            </a:endParaRPr>
          </a:p>
        </p:txBody>
      </p:sp>
      <p:sp>
        <p:nvSpPr>
          <p:cNvPr id="231" name="Rectangle 3"/>
          <p:cNvSpPr/>
          <p:nvPr/>
        </p:nvSpPr>
        <p:spPr>
          <a:xfrm>
            <a:off x="0" y="134136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ФАКТ</a:t>
            </a:r>
            <a:endParaRPr b="0" lang="en-US" sz="24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 субъектов РФ по сути уже перестроили свою бюджетную сеть исходя из принципов, заложенных в Федеральном законе «Об автономных учреждениях» и Федеральном законе № 83-ФЗ. В качестве примеров можно назвать Тюменскую область, Ленинградскую область, Республику Татарстан. Активно идут процессы изменения типа учреждений, повышения их самостоятельности и эффективности в Краснодарском крае, Красноярском крае, Республике Бурятия, Нижегородской области. </a:t>
            </a:r>
            <a:endParaRPr b="0" lang="en-US" sz="20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и в одном из этих субъектов РФ не произошло снижения объема или падения уровня (качества) оказания бесплатных социальных услуг населению, но при этом существенно возросла активность, самостоятельность, открытость управления учреждениями, повысилось участие коллектива учреждения в определении приоритетов его развития, их чувство причастности к процессу развития учреждения, и, наконец, выросла заработная плата рядовых сотрудников.</a:t>
            </a:r>
            <a:endParaRPr b="0" lang="en-US" sz="2000" spc="-1" strike="noStrike">
              <a:solidFill>
                <a:srgbClr val="000000"/>
              </a:solidFill>
              <a:latin typeface="Arial"/>
            </a:endParaRPr>
          </a:p>
        </p:txBody>
      </p:sp>
      <p:sp>
        <p:nvSpPr>
          <p:cNvPr id="232"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1341360"/>
            <a:ext cx="8964720" cy="5516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Целью законопроекта является:</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вышение качества государственных (муниципальных) услуг, предоставляемых населению;</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оздание стимула и мотивации для учреждений к эффективному использованию финансовых ресурсов и государственного (муниципального)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танавливаются новые нормы, направленные на обеспечение прозрачности деятельности бюджетных учреждений;</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о существующей информации об исполнении сметы, предметом отчетности бюджетного учреждения становится отчет о результатах деятельности и об использовании закрепленного за учреждением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аконопроект вводит новые нормы контроля за бюджетным учреждением, в том числе посредством контроля за финансовым состоянием (просроченной кредиторской задолженности, за совершением крупной сделки,  информацией о деятельности бюджетного учреждения, в том числе в части выполнении государственного задания, о результатах проведенных в отношении учреждения контрольных мероприятий).</a:t>
            </a:r>
            <a:endParaRPr b="0" lang="en-US" sz="2000" spc="-1" strike="noStrike">
              <a:solidFill>
                <a:srgbClr val="000000"/>
              </a:solidFill>
              <a:latin typeface="Arial"/>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3"/>
          <p:cNvSpPr/>
          <p:nvPr/>
        </p:nvSpPr>
        <p:spPr>
          <a:xfrm>
            <a:off x="7524720" y="6526080"/>
            <a:ext cx="1511280" cy="33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лайд 15</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ение слайда 2</a:t>
            </a:r>
            <a:endParaRPr b="0" lang="en-US" sz="2000" spc="-1" strike="noStrike">
              <a:solidFill>
                <a:srgbClr val="514185"/>
              </a:solidFill>
              <a:latin typeface="Times New Roman"/>
            </a:endParaRPr>
          </a:p>
        </p:txBody>
      </p:sp>
      <p:sp>
        <p:nvSpPr>
          <p:cNvPr id="137" name="Rectangle 3"/>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333360"/>
            <a:ext cx="9144000" cy="5545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работка Федерального закона осуществлялась Рабочей группой при Правительстве Российской Федерации, с участием представителей федеральных органов государственной власти, ГУ ВШЭ;</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внесен 31 декабря 2009 г. Правительством РФ  в Госдуму РФ и размещен на сайте Госдумы, направлен всем субъектам Российской Федерации, а также в Счетную и Общественную палаты РФ;</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обсужден в 13 комитетах и комиссиях Государственной Думы и Совета Федерации;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6 и 27 февраля 2010 года на совещании Министерства финансов РФ с представителями всех федеральных органов государственной власти  были обсуждены основные положения Федерального закона, а также мероприятия по подготовке его к реализации;</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марте 2010 г. были проведены неоднократные встречи по оценке социально-экономических последствий Федерального закона с представителями  Федерации Независимых Профсоюзов России, с Комиссией по социальному страхованию, социальной защите, отраслям социальной сферы Российской трехсторонней комиссии по регулированию социально-трудовых отношений;</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ходе обсуждения 2 апреля 2010 года Федерального закон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трудовых отношений информации о ходе реализации Федерального закона;</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ведены совещания представителями Минфина России  с участием Сообщества финансистов России, а также в субъектах РФ (включая г. Москву, Республики Саха (Якутия), Коми, Татарстан, Оренбургскую область);</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ка Федерального закона и обсуждение его в Правительстве РФ  и Госдуме РФ происходили в атмосфере открытости и активного участия в работе над ним заинтересованных лиц.</a:t>
            </a:r>
            <a:endParaRPr b="0" lang="en-US" sz="1600" spc="-1" strike="noStrike">
              <a:solidFill>
                <a:srgbClr val="000000"/>
              </a:solidFill>
              <a:latin typeface="Arial"/>
            </a:endParaRPr>
          </a:p>
        </p:txBody>
      </p:sp>
      <p:sp>
        <p:nvSpPr>
          <p:cNvPr id="139"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125000"/>
            <a:ext cx="4572000" cy="47516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a:t>
            </a:r>
            <a:r>
              <a:rPr b="0" lang="ru-RU" sz="1800" spc="-1" strike="noStrike">
                <a:solidFill>
                  <a:srgbClr val="ff0000"/>
                </a:solidFill>
                <a:latin typeface="Times New Roman"/>
              </a:rPr>
              <a:t> </a:t>
            </a:r>
            <a:r>
              <a:rPr b="1" lang="ru-RU" sz="1800" spc="-1" strike="noStrike">
                <a:solidFill>
                  <a:srgbClr val="ff0000"/>
                </a:solidFill>
                <a:latin typeface="Times New Roman"/>
              </a:rPr>
              <a:t>всего</a:t>
            </a:r>
            <a:r>
              <a:rPr b="1" lang="ru-RU" sz="1800" spc="-1" strike="noStrike">
                <a:solidFill>
                  <a:srgbClr val="000000"/>
                </a:solidFill>
                <a:latin typeface="Times New Roman"/>
              </a:rPr>
              <a:t>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2"/>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514185"/>
                </a:solidFill>
                <a:latin typeface="Times New Roman"/>
              </a:rPr>
              <a:t> </a:t>
            </a:r>
            <a:r>
              <a:rPr b="1" lang="ru-RU" sz="2800" spc="-1" strike="noStrike">
                <a:solidFill>
                  <a:srgbClr val="000000"/>
                </a:solidFill>
                <a:latin typeface="Times New Roman"/>
              </a:rPr>
              <a:t>«</a:t>
            </a:r>
            <a:r>
              <a:rPr b="1" i="1" lang="ru-RU" sz="2400" spc="-1" strike="noStrike">
                <a:solidFill>
                  <a:srgbClr val="000000"/>
                </a:solidFill>
                <a:latin typeface="Times New Roman"/>
              </a:rPr>
              <a:t>Принятие Федерального закона приведет к приватизации государственного имущества»</a:t>
            </a:r>
            <a:endParaRPr b="0" lang="en-US" sz="2400" spc="-1" strike="noStrike">
              <a:solidFill>
                <a:srgbClr val="514185"/>
              </a:solidFill>
              <a:latin typeface="Times New Roman"/>
            </a:endParaRPr>
          </a:p>
        </p:txBody>
      </p:sp>
      <p:sp>
        <p:nvSpPr>
          <p:cNvPr id="142" name="Rectangle 4"/>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500720" y="1125360"/>
            <a:ext cx="4643280" cy="475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 </a:t>
            </a:r>
            <a:r>
              <a:rPr b="1" lang="ru-RU" sz="1800" spc="-1" strike="noStrike">
                <a:solidFill>
                  <a:srgbClr val="ff0000"/>
                </a:solidFill>
                <a:latin typeface="Times New Roman"/>
              </a:rPr>
              <a:t>всего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п. 9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5661000"/>
            <a:ext cx="91440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СЕ ИМУЩЕСТВО ПО ПРЕЖНЕМУ ОСТАЕТСЯ В СОБСТВЕННОСТИ СООТВЕТСТВУЮЩЕГО ПУБЛИЧНОГО ПРАВОВОГО ОБРАЗОВАНИЯ, СЛЕДОВАТЕЛЬНО ПРИВАТИЗАЦИИ ЭТОГО ИМУЩЕСТВА НЕ ПРОИЗОЙДЕТ</a:t>
            </a:r>
            <a:endParaRPr b="0" lang="en-US" sz="1600" spc="-1" strike="noStrike">
              <a:solidFill>
                <a:srgbClr val="000000"/>
              </a:solidFill>
              <a:latin typeface="Arial"/>
            </a:endParaRPr>
          </a:p>
        </p:txBody>
      </p:sp>
      <p:sp>
        <p:nvSpPr>
          <p:cNvPr id="145"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1268280"/>
            <a:ext cx="4500720" cy="46101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ые бюджетные учреждения начнут банкротить в целях завладения их имуществом и земельными участками»</a:t>
            </a:r>
            <a:endParaRPr b="0" lang="en-US" sz="2400" spc="-1" strike="noStrike">
              <a:solidFill>
                <a:srgbClr val="514185"/>
              </a:solidFill>
              <a:latin typeface="Times New Roman"/>
            </a:endParaRPr>
          </a:p>
        </p:txBody>
      </p:sp>
      <p:sp>
        <p:nvSpPr>
          <p:cNvPr id="148" name="Rectangle 6"/>
          <p:cNvSpPr/>
          <p:nvPr/>
        </p:nvSpPr>
        <p:spPr>
          <a:xfrm>
            <a:off x="4500720" y="1197000"/>
            <a:ext cx="4498920" cy="4753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0" y="558972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АНКРОТСТВО НОВОГО БЮДЖЕТНОГО УЧРЕЖДЕНИЯ НЕВОЗМОЖНО</a:t>
            </a:r>
            <a:endParaRPr b="0" lang="en-US" sz="1800" spc="-1" strike="noStrike">
              <a:solidFill>
                <a:srgbClr val="000000"/>
              </a:solidFill>
              <a:latin typeface="Arial"/>
            </a:endParaRPr>
          </a:p>
        </p:txBody>
      </p:sp>
      <p:sp>
        <p:nvSpPr>
          <p:cNvPr id="150" name="Rectangle 10"/>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1197000"/>
            <a:ext cx="3564000" cy="4681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 </a:t>
            </a:r>
            <a:endParaRPr b="0" lang="en-US" sz="16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не вправе отчуждать, либо иным способом распоряжаться имуществом, закрепленным за ним собственником или приобретенным за счет средств, выделенных ему собственником на приобретение такого имущества (ст. 298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Земельный участок предоставляется бюджетному учреждению на праве постоянного (бессрочного) пользования, предусматривающем ограничение оборотоспособности земельного участка (ст. 20 Земельного кодекса РФ )</a:t>
            </a:r>
            <a:endParaRPr b="0" lang="en-US" sz="1500" spc="-1" strike="noStrike">
              <a:solidFill>
                <a:srgbClr val="000000"/>
              </a:solidFill>
              <a:latin typeface="Times New Roman"/>
            </a:endParaRPr>
          </a:p>
        </p:txBody>
      </p:sp>
      <p:sp>
        <p:nvSpPr>
          <p:cNvPr id="152" name="PlaceHolder 2"/>
          <p:cNvSpPr>
            <a:spLocks noGrp="1"/>
          </p:cNvSpPr>
          <p:nvPr>
            <p:ph type="title"/>
          </p:nvPr>
        </p:nvSpPr>
        <p:spPr>
          <a:xfrm>
            <a:off x="0" y="259920"/>
            <a:ext cx="9144000" cy="792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ое бюджетное учреждение в обеспечение своих договоров будут закладывать земли и имущество, отдавать недвижимое имущество за долги»</a:t>
            </a:r>
            <a:endParaRPr b="0" lang="en-US" sz="2400" spc="-1" strike="noStrike">
              <a:solidFill>
                <a:srgbClr val="514185"/>
              </a:solidFill>
              <a:latin typeface="Times New Roman"/>
            </a:endParaRPr>
          </a:p>
        </p:txBody>
      </p:sp>
      <p:sp>
        <p:nvSpPr>
          <p:cNvPr id="153" name="Rectangle 4"/>
          <p:cNvSpPr/>
          <p:nvPr/>
        </p:nvSpPr>
        <p:spPr>
          <a:xfrm>
            <a:off x="3492360" y="1197000"/>
            <a:ext cx="5507280" cy="504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без согласия собственника не вправе распоряжаться особо ценным движимым имуществом, закрепленным за ним собственником или приобретенным бюджетным учреждением за счет средств, выделенных ему собственником на приобретение такого имущества, а также недвижимым имуществом (ст. 298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В дополнение к Земельному кодексу, аналогичная норма, определяющая ограничение оборотоспособности земельного участка, предоставляемого бюджетному учреждению, устанавливается в статье 9.2 Закона «О некоммерческих организациях»</a:t>
            </a:r>
            <a:endParaRPr b="0" lang="en-US" sz="1500" spc="-1" strike="noStrike">
              <a:solidFill>
                <a:srgbClr val="000000"/>
              </a:solidFill>
              <a:latin typeface="Arial"/>
            </a:endParaRPr>
          </a:p>
        </p:txBody>
      </p:sp>
      <p:sp>
        <p:nvSpPr>
          <p:cNvPr id="154" name="Rectangle 5"/>
          <p:cNvSpPr/>
          <p:nvPr/>
        </p:nvSpPr>
        <p:spPr>
          <a:xfrm>
            <a:off x="0" y="6093000"/>
            <a:ext cx="914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ПЕРЕДАЧА В ЗАЛОГ НЕДВИЖИМОГО ИМУЩЕСТВА, ОСОБО ЦЕННОГО ДВИЖИМОГО ИМУЩЕСТВА, ЗЕМЕЛЬНЫХ УЧАСТКОВ БЕЗ СОГЛАСИЯ СОБСТВЕННИКА НЕЗАКОННА</a:t>
            </a:r>
            <a:endParaRPr b="0" lang="en-US" sz="1600" spc="-1" strike="noStrike">
              <a:solidFill>
                <a:srgbClr val="000000"/>
              </a:solidFill>
              <a:latin typeface="Arial"/>
            </a:endParaRPr>
          </a:p>
        </p:txBody>
      </p:sp>
      <p:sp>
        <p:nvSpPr>
          <p:cNvPr id="155"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907920"/>
            <a:ext cx="3492360" cy="4897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800" spc="-1" strike="noStrike">
              <a:solidFill>
                <a:srgbClr val="000000"/>
              </a:solidFill>
              <a:latin typeface="Times New Roman"/>
            </a:endParaRPr>
          </a:p>
        </p:txBody>
      </p:sp>
      <p:sp>
        <p:nvSpPr>
          <p:cNvPr id="157" name="PlaceHolder 2"/>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Новые бюджетные учреждения начнут злоупотреблять свободой, распродавая достояние государства»</a:t>
            </a:r>
            <a:endParaRPr b="0" lang="en-US" sz="2400" spc="-1" strike="noStrike">
              <a:solidFill>
                <a:srgbClr val="514185"/>
              </a:solidFill>
              <a:latin typeface="Times New Roman"/>
            </a:endParaRPr>
          </a:p>
        </p:txBody>
      </p:sp>
      <p:sp>
        <p:nvSpPr>
          <p:cNvPr id="158"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3635280" y="981000"/>
            <a:ext cx="5508720" cy="4896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Федеральный закон регулирует отношения по крупным сделкам (к которым относятся сделки связанные с распоряжением денежными средствами, отчуждением иного имущества (которым БУ вправе распоряжаться самостоятельно), с передачей такого имущества в пользование или в залог, при условии что цена такой сделки превышает </a:t>
            </a:r>
            <a:r>
              <a:rPr b="1" lang="ru-RU" sz="1500" spc="-1" strike="noStrike">
                <a:solidFill>
                  <a:srgbClr val="ff0000"/>
                </a:solidFill>
                <a:latin typeface="Times New Roman"/>
              </a:rPr>
              <a:t>10%</a:t>
            </a:r>
            <a:r>
              <a:rPr b="0" lang="ru-RU" sz="1500" spc="-1" strike="noStrike">
                <a:solidFill>
                  <a:srgbClr val="000000"/>
                </a:solidFill>
                <a:latin typeface="Times New Roman"/>
              </a:rPr>
              <a:t> балансовой стоимости активов бюджетного учреждения). Крупная сделка может быть совершена только </a:t>
            </a:r>
            <a:r>
              <a:rPr b="1" lang="ru-RU" sz="1500" spc="-1" strike="noStrike">
                <a:solidFill>
                  <a:srgbClr val="000000"/>
                </a:solidFill>
                <a:latin typeface="Times New Roman"/>
              </a:rPr>
              <a:t>с</a:t>
            </a:r>
            <a:r>
              <a:rPr b="1" lang="ru-RU" sz="1500" spc="-1" strike="noStrike">
                <a:solidFill>
                  <a:srgbClr val="ff0000"/>
                </a:solidFill>
                <a:latin typeface="Times New Roman"/>
              </a:rPr>
              <a:t> </a:t>
            </a:r>
            <a:r>
              <a:rPr b="0" lang="ru-RU" sz="1500" spc="-1" strike="noStrike">
                <a:solidFill>
                  <a:srgbClr val="000000"/>
                </a:solidFill>
                <a:latin typeface="Times New Roman"/>
              </a:rPr>
              <a:t>предварительного согласия учредителя (п. 12 ст. 9.2 Закона «О некоммерческих организациях» )</a:t>
            </a:r>
            <a:endParaRPr b="0" lang="en-US" sz="1500" spc="-1" strike="noStrike">
              <a:solidFill>
                <a:srgbClr val="000000"/>
              </a:solidFill>
              <a:latin typeface="Arial"/>
            </a:endParaRPr>
          </a:p>
        </p:txBody>
      </p:sp>
      <p:sp>
        <p:nvSpPr>
          <p:cNvPr id="160"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ИМУЩЕСТВО ЯВЛЯЕТСЯ ГОСУДАРСТВЕННОЙ СОБСТВЕННОСТЬЮ, СДЕЛКИ С ИМУЩЕСТВОМ ПОДКОНТРОЛЬНЫ УЧРЕДИТЕЛЮ И СОБСТВЕННИКУ</a:t>
            </a:r>
            <a:endParaRPr b="0" lang="en-US" sz="1800" spc="-1" strike="noStrike">
              <a:solidFill>
                <a:srgbClr val="000000"/>
              </a:solidFill>
              <a:latin typeface="Arial"/>
            </a:endParaRPr>
          </a:p>
        </p:txBody>
      </p:sp>
      <p:sp>
        <p:nvSpPr>
          <p:cNvPr id="161"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907920"/>
            <a:ext cx="414036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Закон «О некоммерческих организациях» на бюджетные и автономные учреждения не распространяется (п.5 ст. 1 Закона «О некоммерческих организациях» )</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600" spc="-1" strike="noStrike">
              <a:solidFill>
                <a:srgbClr val="000000"/>
              </a:solidFill>
              <a:latin typeface="Times New Roman"/>
            </a:endParaRPr>
          </a:p>
        </p:txBody>
      </p:sp>
      <p:sp>
        <p:nvSpPr>
          <p:cNvPr id="163" name="PlaceHolder 2"/>
          <p:cNvSpPr>
            <a:spLocks noGrp="1"/>
          </p:cNvSpPr>
          <p:nvPr>
            <p:ph type="title"/>
          </p:nvPr>
        </p:nvSpPr>
        <p:spPr>
          <a:xfrm>
            <a:off x="-108000" y="115920"/>
            <a:ext cx="9252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о своему статусу новые бюджетные учреждения являются коммерческими организациями»</a:t>
            </a:r>
            <a:endParaRPr b="0" lang="en-US" sz="2400" spc="-1" strike="noStrike">
              <a:solidFill>
                <a:srgbClr val="514185"/>
              </a:solidFill>
              <a:latin typeface="Times New Roman"/>
            </a:endParaRPr>
          </a:p>
        </p:txBody>
      </p:sp>
      <p:sp>
        <p:nvSpPr>
          <p:cNvPr id="16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4067280" y="836640"/>
            <a:ext cx="5076720" cy="4608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акон «О некоммерческих организациях» распространяется на бюджетные учреждения и является «базовым» законом, ограничивающим режим распоряжения имуществом, устанавливающим требования публичности информации о деятельности бюджетного учреждения и др.</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600" spc="-1" strike="noStrike">
                <a:solidFill>
                  <a:srgbClr val="ff0000"/>
                </a:solidFill>
                <a:latin typeface="Times New Roman"/>
              </a:rPr>
              <a:t>и</a:t>
            </a:r>
            <a:r>
              <a:rPr b="1" lang="ru-RU" sz="1600" spc="-1" strike="noStrike">
                <a:solidFill>
                  <a:srgbClr val="000000"/>
                </a:solidFill>
                <a:latin typeface="Times New Roman"/>
              </a:rPr>
              <a:t> </a:t>
            </a:r>
            <a:r>
              <a:rPr b="1" lang="ru-RU" sz="16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600" spc="-1" strike="noStrike">
                <a:solidFill>
                  <a:srgbClr val="ff0000"/>
                </a:solidFill>
                <a:latin typeface="Times New Roman"/>
              </a:rPr>
              <a:t> </a:t>
            </a:r>
            <a:r>
              <a:rPr b="0" lang="ru-RU" sz="1600" spc="-1" strike="noStrike">
                <a:solidFill>
                  <a:srgbClr val="000000"/>
                </a:solidFill>
                <a:latin typeface="Times New Roman"/>
              </a:rPr>
              <a:t>(ст. 298 ГК РФ, п. 4 ст. 9.2 Закона «О некоммерческих организациях» )</a:t>
            </a:r>
            <a:endParaRPr b="0" lang="en-US" sz="1600" spc="-1" strike="noStrike">
              <a:solidFill>
                <a:srgbClr val="000000"/>
              </a:solidFill>
              <a:latin typeface="Arial"/>
            </a:endParaRPr>
          </a:p>
        </p:txBody>
      </p:sp>
      <p:sp>
        <p:nvSpPr>
          <p:cNvPr id="166" name="Rectangle 6"/>
          <p:cNvSpPr/>
          <p:nvPr/>
        </p:nvSpPr>
        <p:spPr>
          <a:xfrm>
            <a:off x="0" y="566100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rPr>
              <a:t>ФЕДЕРАЛЬНЫМ ЗАКОНОМ УСИЛИВАЕТСЯ НОРМА,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a:t>
            </a:r>
            <a:endParaRPr b="0" lang="en-US" sz="1500" spc="-1" strike="noStrike">
              <a:solidFill>
                <a:srgbClr val="000000"/>
              </a:solidFill>
              <a:latin typeface="Arial"/>
            </a:endParaRPr>
          </a:p>
        </p:txBody>
      </p:sp>
      <p:sp>
        <p:nvSpPr>
          <p:cNvPr id="167"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980640"/>
            <a:ext cx="3851280" cy="4248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В НАСТОЯЩЕЕ ВРЕМЯ:</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800" spc="-1" strike="noStrike">
              <a:solidFill>
                <a:srgbClr val="000000"/>
              </a:solidFill>
              <a:latin typeface="Times New Roman"/>
            </a:endParaRPr>
          </a:p>
        </p:txBody>
      </p:sp>
      <p:sp>
        <p:nvSpPr>
          <p:cNvPr id="169"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Новые бюджетные учреждения будут наращивать платные услуги за счет сокращения объема бесплатных услуг»</a:t>
            </a:r>
            <a:endParaRPr b="0" lang="en-US" sz="2400" spc="-1" strike="noStrike">
              <a:solidFill>
                <a:srgbClr val="514185"/>
              </a:solidFill>
              <a:latin typeface="Times New Roman"/>
            </a:endParaRPr>
          </a:p>
        </p:txBody>
      </p:sp>
      <p:sp>
        <p:nvSpPr>
          <p:cNvPr id="17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3780000" y="981000"/>
            <a:ext cx="5364000" cy="446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 </a:t>
            </a:r>
            <a:endParaRPr b="0" lang="en-US" sz="1700" spc="-1" strike="noStrike">
              <a:solidFill>
                <a:srgbClr val="000000"/>
              </a:solidFill>
              <a:latin typeface="Arial"/>
            </a:endParaRPr>
          </a:p>
        </p:txBody>
      </p:sp>
      <p:sp>
        <p:nvSpPr>
          <p:cNvPr id="172"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ЕДЕРАЛЬНЫЙ ЗАКОН УТОЧНЯЕТ ДЕЙСТВУЮЩИЕ НОРМЫ,  О ТОМ ЧТО ПЛАТНЫЕ УСЛУГИ МОГУТ ОКАЗЫВАТЬСЯ ТОЛЬКО СВЕРХ ГОСЗАДАНИЯ, А В РАМКАХ ГОСЗАДАНИЯ, ЕСЛИ ЭТО УСТАНОВЛЕНО ФЕДЕРАЛЬНЫМ ЗАКОНОМ (НАПРИМЕР, БИЛЕТЫ В ТЕАТРЫ, МУЗЕИ)</a:t>
            </a:r>
            <a:endParaRPr b="0" lang="en-US" sz="1600" spc="-1" strike="noStrike">
              <a:solidFill>
                <a:srgbClr val="000000"/>
              </a:solidFill>
              <a:latin typeface="Arial"/>
            </a:endParaRPr>
          </a:p>
        </p:txBody>
      </p:sp>
      <p:sp>
        <p:nvSpPr>
          <p:cNvPr id="173"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 </cp:lastModifiedBy>
  <cp:lastPrinted>2009-06-02T16:42:35Z</cp:lastPrinted>
  <dcterms:modified xsi:type="dcterms:W3CDTF">2010-07-09T00:01:02Z</dcterms:modified>
  <cp:revision>999</cp:revision>
  <dc:subject/>
  <dc:title>No Slide Title</dc:title>
</cp:coreProperties>
</file>