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402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F475F1-58F6-4D6C-9C72-41C3E6E4DE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588B20-4548-4388-925F-4983577B7F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DAE8E1-47A9-490B-A952-1D425B64D2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C37-05E1-4D55-AFF2-D18A65A9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260-F6C1-40FB-B645-CE4E6466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E83-16AF-41F6-9D4C-D117861E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9F3-DA42-4CD5-87EC-14995F63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E431-FE28-4079-9E97-D5450E3A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B0DB-92AC-4050-9F83-2420681F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8F03-D268-4768-8AC6-9E4E2974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A9A6-339E-4428-B91A-B50AE4A9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6213-ACC3-48E9-AECA-27C19A9A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90AA-98C4-4FF2-9D33-1B7A0D32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8275-7DC4-4791-B870-4433D7F0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1AC-DDA2-45AE-AE56-D8FCB5E8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9829-2C9C-4349-8C94-6F9E1E69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AAD3-EF00-4C0E-8106-50305507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61D1-8C3E-442D-82D9-43BA1838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8FD1-5672-4B29-9768-02D510ED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D0EB-2A4D-4702-BF13-63CCEE68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EAE-3DCE-49B6-A0A7-EF220D2C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0DF-FD27-4D80-84AE-FE836E3D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B27-0E79-456B-8273-7164F7F6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ABA-1918-4D93-B376-9D18D47D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083-6BDB-4E08-9CC0-75B68BCA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049-8314-4AAF-B22F-339B1B67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1DC-DD3D-41BC-ABD0-F548FE31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FFB9-9186-4645-B7C0-A2B61A0BA26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8ADDB5F-DBB7-4CEF-8A43-E97D0E30A1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17"/>
          <p:cNvSpPr/>
          <p:nvPr/>
        </p:nvSpPr>
        <p:spPr>
          <a:xfrm>
            <a:off x="0" y="455760"/>
            <a:ext cx="185760" cy="6402240"/>
          </a:xfrm>
          <a:custGeom>
            <a:avLst/>
            <a:gdLst>
              <a:gd name="textAreaLeft" fmla="*/ 0 w 185760"/>
              <a:gd name="textAreaRight" fmla="*/ 186120 w 185760"/>
              <a:gd name="textAreaTop" fmla="*/ 0 h 6402240"/>
              <a:gd name="textAreaBottom" fmla="*/ 6402600 h 6402240"/>
            </a:gdLst>
            <a:ahLst/>
            <a:rect l="textAreaLeft" t="textAreaTop" r="textAreaRight" b="textAreaBottom"/>
            <a:pathLst>
              <a:path w="117" h="4033">
                <a:moveTo>
                  <a:pt x="0" y="4033"/>
                </a:moveTo>
                <a:lnTo>
                  <a:pt x="0" y="0"/>
                </a:lnTo>
                <a:lnTo>
                  <a:pt x="117" y="117"/>
                </a:lnTo>
                <a:lnTo>
                  <a:pt x="112" y="4033"/>
                </a:lnTo>
                <a:lnTo>
                  <a:pt x="0" y="4033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7" descr="Надпись Минфин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28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29" descr="untitled1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Freeform 31"/>
          <p:cNvSpPr/>
          <p:nvPr/>
        </p:nvSpPr>
        <p:spPr>
          <a:xfrm>
            <a:off x="-1440" y="457200"/>
            <a:ext cx="9144000" cy="196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760" h="124">
                <a:moveTo>
                  <a:pt x="5760" y="0"/>
                </a:moveTo>
                <a:lnTo>
                  <a:pt x="0" y="4"/>
                </a:lnTo>
                <a:lnTo>
                  <a:pt x="120" y="124"/>
                </a:lnTo>
                <a:lnTo>
                  <a:pt x="5758" y="124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41A0-CB81-480C-ABF3-46BD9EE49E2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BB7A581-2C0A-41CC-830C-7082014BC4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95280" y="2352960"/>
            <a:ext cx="8280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</a:rPr>
              <a:t>О Порядке санкционирования расходов федеральных  государственных учреждений, источником финансового обеспечения которых являются субсидии, полученные в соответствии с абзацем вторым пункта 1 статьи 78.1 Бюджетного кодекса Российской Федерации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MF_emblema [Converted]"/>
          <p:cNvPicPr/>
          <p:nvPr/>
        </p:nvPicPr>
        <p:blipFill>
          <a:blip r:embed="rId1"/>
          <a:stretch/>
        </p:blipFill>
        <p:spPr>
          <a:xfrm>
            <a:off x="785880" y="857160"/>
            <a:ext cx="879480" cy="108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486900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кладчик: Саакян Т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меститель директора Департамента бюджетной политики и метод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а финанс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221000"/>
            <a:ext cx="29163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4 июня 2010 г.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08640"/>
            <a:ext cx="9144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2470-49FD-42C2-AB80-1DB8344847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315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Федеральным законом № 83-ФЗ от 08.05.2010 г. выделено три типа государственных учреждений: автономные, бюджетные и казенные. 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28760" y="2143080"/>
            <a:ext cx="83246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Функции и полномочия учредителя в отношении государственного учреждения, созданного Российской Федерацией, в случае, если иное не установлено федеральными законами, нормативными правовыми актами Президента Российской Федерации или Правительства Российской Федерации, осуществляются соответственно уполномоченным федеральным органом исполнительной власти. Таким образом, необходимо систематизировать и регламентировать деятельность федеральных органов исполнительной власти по осуществлению ими функций и полномочий учредителей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автономных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бюджетных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казе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государственных учреждений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AC81-7D9D-45B1-81F6-EBF3DA418D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840" y="785520"/>
            <a:ext cx="8658360" cy="24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В настоящее время действует постановление Правительства Российской Федерации «Об утверждении Положения об осуществлении федеральными органами исполнительной власти функций и полномочий учредителя федерального автономного учреждения» от 10.10.2007 № 662, которое нуждается в изменениях в связи с принятием Федерального закона № 83-ФЗ от 08.05.2010 г. </a:t>
            </a:r>
            <a:br>
              <a:rPr sz="20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7120" y="3357720"/>
            <a:ext cx="853128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Аналогичные документы по осуществлению федеральными органами исполнительной власти функций и полномочий учредителя бюджетных и казенных учреждений отсутствую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В тоже время действует большое количество отсылочных и перекрестных норм, закрепленных в различных нормативных акт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Это значительно осложняет правоприменительную практи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4ABA-0218-43A1-8E91-4DD6639417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редлагаемый проект постановления Правительства Российской Федерации «Об утверждении Положений об осуществлении федеральными органами исполнительной власти функций и полномочий учредителя федерального учреждения» содержит три приложения, в которых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324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утверждается Положение об осуществлении федеральными органами исполнительной власти функций и полномочий учредителя федерального бюджетного учреж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утверждается Положение об осуществлении федеральными органами исполнительной власти функций и полномочий учредителя федерального казенного учреж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вносятся изменения в постановление Правительства Российской Федерации «Об утверждении Положения об осуществлении федеральными органами исполнительной власти функций и полномочий учредителя федерального автономного учреждения» от 10.10.2007 № 66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CFC9-2DAE-436D-9435-3C69C09436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28760" y="999720"/>
            <a:ext cx="8324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в проекте также предлагается федеральным органам исполнительной власти, не позднее 1 октября 2010 г. разработать и утвердить 8 различных порядков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существления федеральным органом исполнительной власти функций и полномочий учредителя. Данные порядки необходимы для осуществления федеральными органами исполнительной власти функций и полномочий учредителя федерального государственного учре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енно часть функций и полномочий учредителя федерального государственного учреждения будет осуществляться по порядкам, утвержденным Правительством Российской Федерации, а часть по порядкам, утвержденным федеральными органами исполнительной вла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1F58-9904-45A2-99C0-6A5BA1B3A4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еречень функций и полномочий учредителя федерального государственного учреждения порядки, по которым будут приняты Правительством Российской Федерации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47840" y="1857240"/>
            <a:ext cx="83246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функции и полномочия учредителя федерального бюджетного учреждения при его создании, реорганизации, изменении типа, ликвидации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утверждение устава федерального бюджетного учреждения, а также вносимые в него измене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и утверждение государственного задания на оказание государственных услуг (выполнение работ) юридическим и физическим лицам в соответствии с предусмотренными уставом федерального бюджетного учреждения основными видами деятельности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определение перечня особо ценного движимого имущества, закрепленного за федеральным бюджетным учреждением учредителем или приобретенного бюджетным учреждением за счет средств, выделенных ему учредителем на приобретение такого имущества, а также внесение в него изменений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осуществление финансовое обеспечение выполнения государственного зада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C5FC-6A9F-4963-86CB-7126C78375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0294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еречень функций и полномочий учредителя федерального государственного учреждения порядки, по которым будут приняты федеральными органами исполнительной власти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47840" y="2071440"/>
            <a:ext cx="832464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2714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предварительное согласование совершения федеральным бюджетным учреждением крупных сделок, соответствующих критериям, установленным в пункте 13 статьи 9.2 Федерального закона № 7-ФЗ «О некоммерческих организациях»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2714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принятие решения об одобрении действий, в том числе сделок с участием  федерального бюджетного учреждения, в совершении которых имеется заинтересованность, определяемая в соответствии с критериями, установленными в статье 27 Федерального закона № 7-ФЗ «О некоммерческих организациях»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2714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согласование распоряжения особо ценным движимым имуществом, закрепленным за федеральным бюджетным учреждением учредителем либо приобретенным федеральным бюджетным учреждением за счет средств, выделенных его учредителем на приобретение такого имущества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EBBC-1A0D-4902-8C67-D2B97A121B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57120" y="642600"/>
            <a:ext cx="84153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181080" indent="4442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9036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согласование распоряжения недвижимым имуществом федерального бюджетного учреждения, в том числе передачу в аренду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 indent="4442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9036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согласование внесения федеральным бюджетным учреждением, в случаях и порядке, предусмотренных федеральными законами, денежных средств (если иное не установлено условиями их предоставления), иного имущества за исключением особо ценного движимого имущества, а также недвижимого имущества, в уставный (складочный) капитал хозяйственных обществ или иным образом передачу им это имущество в качестве их учредителя или участника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 indent="4442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9036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согласование передачи некоммерческим организациям в качестве их учредителя или участника денежных средств (если иное не установлено условиями их предоставления) и иного имущества, за исключением особо ценного движимого имущества, закрепленного за ним собственником или приобретенного бюджетным учреждением за счет средств, выделенных ему собственником на приобретение такого имущества, а также недвижимого имущества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 indent="4442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9036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определение предельно допустимого значения просроченной кредиторской задолженности федерального бюджетного учреждения, превышение которого влечет расторжении трудового договора с руководителем федерального бюджетного учреждения по инициативе работодателя в соответствии с Трудовым кодексом Российской Федераци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26C7-D71C-4A31-8B0D-B864E5817E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47840" y="856800"/>
            <a:ext cx="832464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Федеральный орган исполнительной власти, осуществляющий функции и полномочия учредителя федерального государственного учреждения такж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назначает (утверждает) руководителя федерального бюджетного учреждения и прекращает его полномоч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заключает и прекращает трудовой договор с руководителем федерального бюджетного учрежде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устанавливает порядок определения платы для физических и юридических лиц за услуги (работы), относящиеся к основным видам деятельности федерального бюджетного учреждения, оказываемые им  сверх установленного государственного задания, а также в случаях, определенных федеральными законами, в пределах установленного государственного зада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осуществляет иные функции и полномочия учредителя, установленные федеральными законами и нормативными правовыми актами Президента Российской Федерации и Правительства Российской Федераци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43B0-8E4E-44B0-A5D4-A2BB021380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еречни функций и полномочий учредителя федерального государственного учреждения, осуществляемые в соответствии с требованиями, устанавливаемые Минфином России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28760" y="2500200"/>
            <a:ext cx="832464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3618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пределение порядка составления и утверждения отчета о результатах  деятельности федерального бюджетного учреждения и об использовании закрепленного за ним федерального имуществ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пределение порядка составления и утверждения плана финансово-хозяйственной деятельности федерального бюджетного учре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B1A3-AB7A-41AE-99F4-D69A581E1E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80294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Решения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о функциям и полномочиям учредителя федерального государственного учреждения, связанные с недвижимым имуществом и денежными средствами принимаются федеральным органом исполнительной власти по согласованию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47840" y="3071520"/>
            <a:ext cx="832464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3618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с Федеральным агентством по управлению государственным имуществом, за исключением федеральных бюджетных учреждений, находящихся в ведении Министерства обороны Российской Федерации, Управления делами Президента Российской Федерации и Федерального агентства морского и речного транспор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C391-1FB6-4D35-AF5F-B93C0EA706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92280"/>
            <a:ext cx="9144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Бюджетный кодекс Российской Федерации (в ред. Закона № 83-ФЗ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атья 78.1. Предоставление субсидий некоммерческим организациям, не являющимся  казенными учрежд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1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з бюджетов бюджетной системы Российской Федерации могут предоставляться субсидии бюджетным и автономным учреждениям на иные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рядок определения объема и условия  предоставления указанных субсидий из федерального бюджета и бюджетов государственных внебюджетных фондов Российской Федерации, бюджетов субъектов Российской Федерации и бюджетов территориальных государственных внебюджетных фондов, местных бюджетов устанавливается соответственно Правительством Российской Федерации, высшим исполнительным органом государственной власти субъекта Российской Федерации, местной администр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EA54-9FDE-4672-84A4-825A74756B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7888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47840" y="1357200"/>
            <a:ext cx="832464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постановление вступит в силу с 1 января 2011 г.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До 1 июня 2011 внести изменения в устав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5536-0673-41A1-982F-104D7B5B49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324000" y="549360"/>
            <a:ext cx="8656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76280"/>
            <a:ext cx="9144000" cy="65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тья 30 Федерального закона от 8 мая 2010 г. № 83-Ф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перации со средствам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, поступающими федеральным бюджетным учреждениям, бюджетным учреждениям субъекта Российской Федерации, муниципальным бюджетным учреждениям из соответствующего бюджета бюджетной системы Российской Федерации в соответствии с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бзацем вторым пункта 1 статьи 78.1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и пунктом 5 статьи 79 Бюджетного кодекса Российской Федерации (в редакции настоящего Федерального закона) в порядке, установленном соответственно Правительством Российской Федерации, высшим исполнительным органом государственной власти субъекта Российской Федерации, местной администрацией муниципального образования, учитываются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а отдельном лицевом счете бюджетного учреждения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16. Расходы бюджетных учреждений, источником финансового обеспечения которых являются средства, полученные бюджетными учреждениями в соответствии с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бзацем вторым пункта 1 статьи 78.1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и пунктом 5 статьи 79 Бюджетного кодекса Российской Федерации (в редакции настоящего Федерального закона), осуществляются после проверки документов, подтверждающих возникновение денежных обязательств, и соответствия содержания операции кодам классификации операций сектора государственного управления и целям предоставления субсидии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соответствии с порядком санкционирования указанных расходов, установленным соответствующим финансовым органом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, с учетом положений пункта 7 части 20 настоящей стат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е использованные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 текущем финансовом году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остатк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средств, предоставленных бюджетным учреждениям из соответствующего бюджета бюджетной системы Российской Федерации в соответствии с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бзацем вторым пункта 1 статьи 78.1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и пунктом 5 статьи 79 Бюджетного кодекса Российской Федерации (в редакции настоящего Федерального закона),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длежат перечислению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бюджетными учреждениями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соответствующий бюджет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 Остатки средств, перечисленные бюджетными учреждениями в соответствующий бюджет, могут быть возвращены бюджетным учреждениям в очередном финансовом году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и наличии потребности в направлении их на те же цели в соответствии с решением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соответствующего главного распорядителя бюджетных 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DA11-8FA2-4118-9711-797035C6CC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2708280"/>
            <a:ext cx="7201080" cy="414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Book Antiqua"/>
              </a:rPr>
              <a:t>Лицевой счет, п</a:t>
            </a: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роверка расчетного документа (Заявки)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казанного в расчетном документе (Заявк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да (кодов) КОСГУ и кода субсидии  в Свед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соответствие указанного в расчетном документе (Заявке) кода КОСГУ, коду КОСГ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ному в Сведениях по соответствующему коду субсид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соответствие указанных в расчетном документе и Заявке кодов КОСГ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овому назначению платежа, исходя из содержания текста назначения платежа,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и с утвержденным в установленном порядке Министерством финансов Россий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ции порядком применения бюджетной классификации Российской Феде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соответствие содержания операции по оплате денежных обязательств на поставки товар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ение работ, оказание услуг, аренды, исходя из документа-основа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ду КОСГУ и содержанию текста назначения платежа, указанным в расчетном докумен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) непревышение суммы в расчетном документе (Заявке) над суммой остатка соответствующ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авления расходов по коду КОСГУ и соответствующему коду субсид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тенным на лицевом сче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) соответствие  информации, указанной в расчетном документе и Заявке, Свед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1413000"/>
            <a:ext cx="237636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Федер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1989000"/>
            <a:ext cx="1584360" cy="144720"/>
          </a:xfrm>
          <a:prstGeom prst="rightArrow">
            <a:avLst>
              <a:gd name="adj1" fmla="val 50000"/>
              <a:gd name="adj2" fmla="val 27369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   </a:t>
            </a: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ЗКР с указ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</a:t>
            </a: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кода субсид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7932600" y="4820760"/>
            <a:ext cx="406440" cy="1079280"/>
          </a:xfrm>
          <a:prstGeom prst="downArrow">
            <a:avLst>
              <a:gd name="adj1" fmla="val 50000"/>
              <a:gd name="adj2" fmla="val 6638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9360"/>
            <a:ext cx="88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Схема осуществления санкционирования по целевым субсид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59640" y="0"/>
            <a:ext cx="68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14185"/>
                </a:solidFill>
                <a:latin typeface="Book Antiqua"/>
              </a:rPr>
              <a:t>2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1052640"/>
            <a:ext cx="1513080" cy="15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ФО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(учредит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1125360"/>
            <a:ext cx="5688000" cy="287640"/>
          </a:xfrm>
          <a:prstGeom prst="rightArrow">
            <a:avLst>
              <a:gd name="adj1" fmla="val 50000"/>
              <a:gd name="adj2" fmla="val 49436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db9"/>
                </a:solidFill>
                <a:latin typeface="Book Antiqua"/>
              </a:rPr>
              <a:t>С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db9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580000" y="1773360"/>
            <a:ext cx="1944720" cy="142920"/>
          </a:xfrm>
          <a:prstGeom prst="rightArrow">
            <a:avLst>
              <a:gd name="adj1" fmla="val 50000"/>
              <a:gd name="adj2" fmla="val 34017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Све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24720" y="1125360"/>
            <a:ext cx="1441440" cy="15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Бюдже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80000" y="2205000"/>
            <a:ext cx="1944720" cy="287280"/>
          </a:xfrm>
          <a:prstGeom prst="rightArrow">
            <a:avLst>
              <a:gd name="adj1" fmla="val 50000"/>
              <a:gd name="adj2" fmla="val 16923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Расчетный докумен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Заявка на налич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40720" y="4437000"/>
            <a:ext cx="503280" cy="19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контраг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2CCA-43FA-4A5F-AFFD-804BF8F73D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9F07-08FC-47EB-9BCA-4333EC4F75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179280" y="112536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98440" y="692280"/>
            <a:ext cx="8845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Times New Roman"/>
                <a:ea typeface="Arial"/>
              </a:rPr>
              <a:t>Порядок взыскания неиспользованных остатков субсидий, предоставленных из федерального бюджета бюджетным учрежд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11280" y="1557360"/>
            <a:ext cx="8227800" cy="72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 1 января неиспользованные остатки целевых субсидий учитываются ОФК ка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уммы без права расхо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24360" y="2781360"/>
            <a:ext cx="1868760" cy="129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16000" y="2781360"/>
            <a:ext cx="1800360" cy="1439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16000" y="422100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учред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400536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бюджет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88000" y="5300640"/>
            <a:ext cx="10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1"/>
          <p:cNvSpPr/>
          <p:nvPr/>
        </p:nvSpPr>
        <p:spPr>
          <a:xfrm>
            <a:off x="3851280" y="5445000"/>
            <a:ext cx="2736720" cy="792360"/>
          </a:xfrm>
          <a:prstGeom prst="can">
            <a:avLst>
              <a:gd name="adj" fmla="val 15907"/>
            </a:avLst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10800000"/>
          </a:gra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/>
          <p:nvPr/>
        </p:nvCxnSpPr>
        <p:spPr>
          <a:xfrm flipH="1">
            <a:off x="6587280" y="3715920"/>
            <a:ext cx="1018440" cy="1896120"/>
          </a:xfrm>
          <a:prstGeom prst="bentConnector3">
            <a:avLst>
              <a:gd name="adj1" fmla="val -224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885080" y="3789360"/>
            <a:ext cx="93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4149720"/>
            <a:ext cx="11509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Возврат  остатков целевых субсидий, в которых отсутствует потребность (до 1 июл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328464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285264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Уведомление по взаимным расче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33577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 1 ию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258920" y="4653000"/>
            <a:ext cx="1962000" cy="151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76360" y="595008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276360" y="3789360"/>
            <a:ext cx="2374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67280" y="4365720"/>
            <a:ext cx="1726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429264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(Приложение к Плану ФХД до 1 июл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5661000"/>
            <a:ext cx="9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зыскание после 1 ию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558972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ADAC-855A-4BF5-AE42-EF87FE9D86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723960" y="-219240"/>
            <a:ext cx="10593360" cy="729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0630-FA38-43B6-B82E-BB232C91D2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719280" y="-174600"/>
            <a:ext cx="10582560" cy="720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FECE-F2B0-4361-AEB2-E9D02C6C84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116000" y="2133720"/>
            <a:ext cx="7272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ект постановления Правительств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О порядке осущест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федеральными органами исполнительной власти функций и полномочий учредителя федерального государственного учрежд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MF_emblema [Converted]"/>
          <p:cNvPicPr/>
          <p:nvPr/>
        </p:nvPicPr>
        <p:blipFill>
          <a:blip r:embed="rId1"/>
          <a:stretch/>
        </p:blipFill>
        <p:spPr>
          <a:xfrm>
            <a:off x="785880" y="857160"/>
            <a:ext cx="879480" cy="108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A0F0-66F4-4447-9E63-A48FE833F5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редлагаемый проект постановления Правительства РФ разработан с целью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99680" y="2286000"/>
            <a:ext cx="8325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и положений Федерального закона от 8 мая 2010 г. № 83-ФЗ 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систематизации и объединения норм федерального законодательства относительно осуществлении федеральными органами исполнительной власти функций и полномочий учредителя федеральных государственных учреждений всех типов в едином подзаконном нормативном правовом ак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495B-47E4-47EF-9EDE-2C6E6A6CED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2:30Z</dcterms:created>
  <dc:creator>Efimov I.L.</dc:creator>
  <dc:description/>
  <dc:language>en-US</dc:language>
  <cp:lastModifiedBy>9945</cp:lastModifiedBy>
  <cp:lastPrinted>2009-06-02T16:42:35Z</cp:lastPrinted>
  <dcterms:modified xsi:type="dcterms:W3CDTF">2010-06-23T15:46:12Z</dcterms:modified>
  <cp:revision>1029</cp:revision>
  <dc:subject/>
  <dc:title>No Slide Title</dc:title>
</cp:coreProperties>
</file>