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FBB2-5DA0-4558-8899-E4A31B2B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39AA-D20D-44DE-8DB9-9ACA8E30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7EAC-6797-416C-856C-4E75B00C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3DE2-F6B1-48C3-BFD0-0A63E739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92A3-6F57-443B-AE57-2166E8B5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57C-F8E9-4B42-A390-EC2F8834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713F-3C05-474D-9E6F-195425B3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08DF-A838-4895-9903-15160B19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92E2-5B85-4263-BD7F-2B50B1F4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5DEA-52E2-4D5B-9645-CD624EFD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7576-C57A-4EAD-B9D2-8657DA6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FDDF-92F5-4107-ACF8-876A70F3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FC4-D7D4-49B8-8E67-F3A3B2CE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BAAC-CE98-443A-90D5-FF0E40A7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9279-12EC-4681-BBBD-B7F9422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0BD6-59C9-46AE-8529-B2C809AE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7399-5F7B-4D3E-8ED5-DE534278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E0B1-0A37-4E54-8B30-F8554B5C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34D8-DCC5-4A61-9E8C-EBCAEDB1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4D8D-F929-4466-88ED-66AB24E3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F885-958F-4736-B690-77434F9D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E286-5268-4DD9-8326-5C7B2114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A1DF-E635-4B3E-BA2F-52FC23A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8094-934B-4E25-8CB6-0F275A3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6DA-E4EA-498C-A0A2-BC3F1D495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E5BA-B214-4252-9AB8-0AAADBCEC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875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рядок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здания реорганизации, изменения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ипа и ликвидации федерального государственного учреждения и порядок отнесения к категории особо ценного движимого имущества государственного (муниципального) бюджетного или автономного учре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4868640"/>
            <a:ext cx="8452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Докладчик: Старовойтов А.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государственного управления, регионального развития и местного самоуправления                          Аппарата Правительства Российской Федер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3280" y="1700280"/>
            <a:ext cx="2160720" cy="95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роекта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ояснительной записки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оекту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324000" y="378936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гласование проекта РП РФ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24000" y="450864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нятие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Устава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43280" y="429264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D676-A032-4688-B9D2-41487007E8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9280" y="692280"/>
            <a:ext cx="8209080" cy="1152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 может быть осуществлена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771640" y="278136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ли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79280" y="278136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ff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4859280" y="2781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аз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7093080" y="2781360"/>
            <a:ext cx="187164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ы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24000" y="4797360"/>
            <a:ext cx="8640720" cy="18716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РЕОБРАЗОВАНИЕ Ф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НКО иной формы или в хозяйственное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допускается только в случаях и в предел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установленных законодательством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250920" y="3933720"/>
            <a:ext cx="20160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авовой а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ФОИВа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2771640" y="3933720"/>
            <a:ext cx="619308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РП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9ABC-CA74-4556-8518-769F0BA291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280" y="691920"/>
            <a:ext cx="8209080" cy="720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95280" y="2060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о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859280" y="2060640"/>
            <a:ext cx="3962520" cy="4248000"/>
          </a:xfrm>
          <a:prstGeom prst="wedgeRoundRectCallout">
            <a:avLst>
              <a:gd name="adj1" fmla="val -78925"/>
              <a:gd name="adj2" fmla="val -3112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который будет осуществ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реорганизации ФГУ по согласованию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95280" y="4724280"/>
            <a:ext cx="3960720" cy="1944720"/>
          </a:xfrm>
          <a:prstGeom prst="wedgeRoundRectCallout">
            <a:avLst>
              <a:gd name="adj1" fmla="val -35129"/>
              <a:gd name="adj2" fmla="val -68365"/>
              <a:gd name="adj3" fmla="val 16667"/>
            </a:avLst>
          </a:prstGeom>
          <a:noFill/>
          <a:ln w="2844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Times New Roman"/>
              </a:rPr>
              <a:t>в случае изменения по результатам реорганизации подведомственности ФГУ, принимаетс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50021"/>
                </a:solidFill>
                <a:latin typeface="Times New Roman"/>
              </a:rPr>
              <a:t>РП Р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CC48-E48D-49F1-94D3-796673E07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DEC3-49F0-4AC4-9E6D-CD2D6B510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9280" y="764640"/>
            <a:ext cx="8209080" cy="864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24000" y="2421000"/>
            <a:ext cx="424800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казенного или бюдже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24000" y="4724280"/>
            <a:ext cx="8640720" cy="16574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ИЗМЕНЕНИЕ ТИПА Ф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НЕ ЯВЛЯЕТСЯ ЕГО РЕОРГАНИЗ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716360" y="2421000"/>
            <a:ext cx="424836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автоно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F469-6037-49C3-B84F-17CCDA552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РП РФ об изменении типа ФГУ по согласованию с Минфином России и МЭР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5CE5-62A7-4F10-B87F-77574491CF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б изменении типа ФГУ по согласованию 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F1F8-51E8-4412-9C6E-098F70B4B1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или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31B0-379D-4C83-A766-2482C9DC5D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автоном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324000" y="2276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643280" y="2349360"/>
            <a:ext cx="4105440" cy="3240360"/>
          </a:xfrm>
          <a:prstGeom prst="wedgeRoundRectCallout">
            <a:avLst>
              <a:gd name="adj1" fmla="val -74439"/>
              <a:gd name="adj2" fmla="val -24620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предложение об изменении типа ФГУ по согласованию с МЭР России по инициативе либо с согласия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H="1">
            <a:off x="3492360" y="3933720"/>
            <a:ext cx="1586160" cy="11509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50920" y="5013360"/>
            <a:ext cx="4176720" cy="165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Предложение дол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соответствовать требов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ФЗ «Об А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+  форме предлож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утверждаемой Правительством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EF00-FBF3-4DC5-8573-84F5B98D2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ликви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76296"/>
              <a:gd name="adj2" fmla="val 414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ликвидации ФГ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FBC7-F2C7-422F-8EED-A05791731A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042920" y="981000"/>
            <a:ext cx="712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оссийской Федерации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б утверждении порядка создания, реорганизации, изменения типа и ликвидации федеральных государственных учреждений, а также утверждения уставов федеральных государственных учреждений и внесения в них измене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27FF-01BF-4EDA-801F-27C28D235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24000" y="2133720"/>
            <a:ext cx="856908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24000" y="3573360"/>
            <a:ext cx="8569080" cy="93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324000" y="5013360"/>
            <a:ext cx="8569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ФОИВ-СБП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4643280" y="306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4643280" y="450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6877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2AED-A61A-475F-B689-949A81CF80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116000" y="213372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ОИВ (учреди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971640" y="3429000"/>
            <a:ext cx="7272360" cy="2448000"/>
          </a:xfrm>
          <a:prstGeom prst="wedgeRoundRectCallout">
            <a:avLst>
              <a:gd name="adj1" fmla="val -2717"/>
              <a:gd name="adj2" fmla="val -6316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водит правовой акт ФОИВ-СБП до сведения регистрирующего орган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тверждает состав ликвидационной комисс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станавливает порядок и сроки ликвидации соответствующего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694836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B6E3-FD3F-42A8-A2AF-2B5D717195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16000" y="206064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онная коми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71640" y="3429000"/>
            <a:ext cx="7272360" cy="2736720"/>
          </a:xfrm>
          <a:prstGeom prst="wedgeRoundRectCallout">
            <a:avLst>
              <a:gd name="adj1" fmla="val -1842"/>
              <a:gd name="adj2" fmla="val -6548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полномочия по управления делами ликвидируемого Ф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готавливает и представляет для утверждения ФОИВ (учредителю) промежуточный и окончательный ликвидационный балан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иные мероприятия по ликвидации ФГУ, предусмотренные законодательством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885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273E-442E-45BA-AAA0-8D1DA09E5D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39640" y="2205000"/>
            <a:ext cx="8209080" cy="1511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ередача имущества ФГУ, в том числе, оставшегося пос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довлетворения требований кредиторов, 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ему функции по управлению имущ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539640" y="422100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крытие лицевых счетов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539640" y="5300640"/>
            <a:ext cx="820908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несение записи в ЕГРЮЛ о прекращени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ответствующего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643280" y="371628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643280" y="4797360"/>
            <a:ext cx="0" cy="503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94FC-D824-4C4C-BE1F-4AA454510A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тверждение (изменение) устав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324000" y="2349360"/>
            <a:ext cx="4032000" cy="374364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 (учреди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утвер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изменен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68870"/>
              <a:gd name="adj2" fmla="val 1532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 (учредителя) об утверждении (изменении) Устава ФГУ согласовывается с Минфином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ЭР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3EE0-12A6-42EB-AE82-916B47273B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сведения об учреждении (наименование, ти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местонахождение, наименование учредител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а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539640" y="364500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труктуру, компетенцию органов управления, порядок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рмирования и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39640" y="479736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счерпывающий перечень видо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84360" y="580536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основн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2987640" y="5805360"/>
            <a:ext cx="180036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иных вид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5292720" y="5805360"/>
            <a:ext cx="331164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приносящей доход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619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694836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E2DE-6817-4C91-B97D-576BA5C4A7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распоряжения имуществом, приобрете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У или БУ за счет доходов от приносящей д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539640" y="357336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передачи КУ или БУ денежных средств НКО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ачестве их учредителя или учас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539640" y="472428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осуществления крупных сделок или сде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 совершении которых имеется заинтерес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539640" y="5805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прет на совершение сделок, возмож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оторых является обременение или отчужден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FDFA-9055-44D2-8CA7-A01C267E8E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692280"/>
            <a:ext cx="8209080" cy="81720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39640" y="2276640"/>
            <a:ext cx="8209080" cy="502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б открытии лицевых 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468360" y="2997360"/>
            <a:ext cx="8209080" cy="86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 ликвидации КУ или БУ и распоряж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ом имуществом ликвидируем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539640" y="4797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казание на субсидиарную ответственность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 обязательствам 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539640" y="4076640"/>
            <a:ext cx="820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ведения о филиалах и представитель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C3BF-9888-4C10-972C-B10CC56963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/>
          <p:cNvSpPr/>
          <p:nvPr/>
        </p:nvSpPr>
        <p:spPr>
          <a:xfrm>
            <a:off x="611280" y="155736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остано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рави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539640" y="422100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Действующ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уставы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84720" y="1700280"/>
            <a:ext cx="4174920" cy="1008000"/>
          </a:xfrm>
          <a:prstGeom prst="wedgeRoundRectCallout">
            <a:avLst>
              <a:gd name="adj1" fmla="val -72166"/>
              <a:gd name="adj2" fmla="val 52361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упает в силу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янва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995640" y="3645000"/>
            <a:ext cx="4608720" cy="2303280"/>
          </a:xfrm>
          <a:prstGeom prst="wedgeRoundRectCallout">
            <a:avLst>
              <a:gd name="adj1" fmla="val -66949"/>
              <a:gd name="adj2" fmla="val 3001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лжны быть приведены в соответствие с требован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П РФ и примерными уста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 1 июня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FC44-9354-444E-8B7A-547D83D6B4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042920" y="1413000"/>
            <a:ext cx="712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 порядке отнесения имущества автономного или бюджетного учреждения к категории особо ценного движимого имуще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E294-3FD0-43F5-8582-B0F4AD32E2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5"/>
          <p:cNvSpPr/>
          <p:nvPr/>
        </p:nvSpPr>
        <p:spPr>
          <a:xfrm>
            <a:off x="755640" y="765000"/>
            <a:ext cx="7561440" cy="1440000"/>
          </a:xfrm>
          <a:prstGeom prst="downArrowCallout">
            <a:avLst>
              <a:gd name="adj1" fmla="val 134837"/>
              <a:gd name="adj2" fmla="val 132126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ЦЕЛИ РАЗРАБОТК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3700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492280"/>
            <a:ext cx="8209080" cy="79236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реализации по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ого закона от 8 мая 2010 г. № 83-Ф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39640" y="3645000"/>
            <a:ext cx="8209080" cy="792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истематизация и объединение правовых нор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в едином подзаконном Н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39640" y="4797360"/>
            <a:ext cx="8280360" cy="1656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вершенствование и упрощение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и и утверждения (изменения) 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ых государственных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428E-48D6-409A-A9F2-E8D8948BA2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07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Структура полномочий органов публичной власти по установлению видов и перечней особо ценного движимого имущества автономных и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5280" y="2193840"/>
          <a:ext cx="8497800" cy="4087800"/>
        </p:xfrm>
        <a:graphic>
          <a:graphicData uri="http://schemas.openxmlformats.org/drawingml/2006/table">
            <a:tbl>
              <a:tblPr/>
              <a:tblGrid>
                <a:gridCol w="3957480"/>
                <a:gridCol w="454032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Полномоч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Орган публичной вла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ановление порядка отнесения имущества к категории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ительство Российской Федера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о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о определению видов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ые органы исполнительной власти (федеральные органы госвласти, руководство деятельностью которых осуществляет Президент РФ или Правительство РФ) – в отношении федеральных АУ и 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шие исполнительные органы госвласти субъектов РФ – в отношении АУ и БУ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е администрации – в отношении муниципальных АУ и Б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ие перечней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ы, осуществляющие функции и полномочия учредителей АУ и Б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87BA-838D-465C-9405-672C915CA4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11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752480"/>
          <a:ext cx="8569080" cy="491040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яются в порядк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устанавливаемом Правительством РФ (ФЗ от 3.11.2006 №174-ФЗ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Постановлением Правительства РФ от 31.05.2007 №337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могу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E8B2-8210-4A83-AFE4-7B934CF4C2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628640"/>
          <a:ext cx="8424720" cy="4645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определя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гут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Б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Б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Б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091C-F60F-4BE7-BEC8-B67AF8F6E6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автоном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1217520"/>
          <a:ext cx="9144000" cy="5640480"/>
        </p:xfrm>
        <a:graphic>
          <a:graphicData uri="http://schemas.openxmlformats.org/drawingml/2006/table">
            <a:tbl>
              <a:tblPr/>
              <a:tblGrid>
                <a:gridCol w="1490760"/>
                <a:gridCol w="3132000"/>
                <a:gridCol w="45212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втоном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федеральных АУ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мущество, без которого осуществление уставной деятельности существенно затрудне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алансовая стоимость которого превышает 500 тыс. рублей (ППРФ от 31.05.2007 №337 в ред. ППРФ от 05.08.2009 №639 – ранее 50 тыс.рубле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чуждение которого осуществляется в специальном порядке, установленном ФЗ и иными федеральными НП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АУ субъектов РФ и муниципальных АУ: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порядках, установленных высшими исполнительными органами госвласти субъектов РФ и органами МСУ с учетом требований ППРФ от 31.05.2007 №3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BCC3-84BA-4DB5-99D4-C2F7224F84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бюджет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9280" y="1628640"/>
          <a:ext cx="8785440" cy="5072040"/>
        </p:xfrm>
        <a:graphic>
          <a:graphicData uri="http://schemas.openxmlformats.org/drawingml/2006/table">
            <a:tbl>
              <a:tblPr/>
              <a:tblGrid>
                <a:gridCol w="1581120"/>
                <a:gridCol w="2372040"/>
                <a:gridCol w="48322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устанавлива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2BBA-91AC-49A5-AD1C-76BDF22B56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755640" y="692280"/>
            <a:ext cx="7561440" cy="1081080"/>
          </a:xfrm>
          <a:prstGeom prst="downArrowCallout">
            <a:avLst>
              <a:gd name="adj1" fmla="val 179603"/>
              <a:gd name="adj2" fmla="val 175991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Действующее правовое рег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989000"/>
          <a:ext cx="8569080" cy="433260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ОЗ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4.12.2007 №9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8.05.2007 №325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ОРГА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ИКВИ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1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УСТ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FACC-49E2-421A-855F-3706F927B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Основные проблемы действующего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95280" y="2565360"/>
            <a:ext cx="8424720" cy="1224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аличие правовых пробелов в вопросах регул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процедур изменения типа и ликвидации БУ и А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утверждения (изменения) уста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4221000"/>
            <a:ext cx="8424720" cy="57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изкая степень детализации процедурных нор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5280" y="5229360"/>
            <a:ext cx="8496360" cy="93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Большое количество отсылочных и перекрестных нор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закрепленных в ведомственных а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9514-93A8-4B3A-A99E-B60F59326F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324000" y="907920"/>
            <a:ext cx="2808000" cy="2016360"/>
          </a:xfrm>
          <a:prstGeom prst="verticalScroll">
            <a:avLst>
              <a:gd name="adj" fmla="val 12500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ро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остано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5651640" y="692280"/>
            <a:ext cx="3097080" cy="3457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Поряд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ликвидации ФГУ, а также утверждения уставов ФГУ и внесения в них изменений</a:t>
            </a:r>
            <a:r>
              <a:rPr b="0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059280" y="1628640"/>
            <a:ext cx="2449440" cy="865440"/>
          </a:xfrm>
          <a:prstGeom prst="rightArrow">
            <a:avLst>
              <a:gd name="adj1" fmla="val 50000"/>
              <a:gd name="adj2" fmla="val 7075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ТВЕРЖ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332000" y="306864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24000" y="4221000"/>
            <a:ext cx="8640720" cy="252108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УТРАЧИВАЮТ С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10.02.2004 г. №7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 создании, реорганизации и ликвид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ых государственных учреждений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24.12.2007 г. №9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б утверждении правил под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ложений о создании федеральных автоном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тем изменения типа существующих федер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сударственных учрежд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12BE-1A7D-4436-A851-AF28CA332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ocument"/>
          <p:cNvSpPr/>
          <p:nvPr/>
        </p:nvSpPr>
        <p:spPr>
          <a:xfrm>
            <a:off x="2484360" y="836640"/>
            <a:ext cx="3743280" cy="1800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аспространяется на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11280" y="3141720"/>
            <a:ext cx="201600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 - СБ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227640" y="3068640"/>
            <a:ext cx="2665440" cy="165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ункц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номоч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дител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3348000" y="3933720"/>
            <a:ext cx="208764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аз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611280" y="5229360"/>
            <a:ext cx="2268360" cy="115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бюдж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5796000" y="5300640"/>
            <a:ext cx="226836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автоном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1979640" y="2421000"/>
            <a:ext cx="792000" cy="720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356000" y="2637000"/>
            <a:ext cx="0" cy="1296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2555640" y="2637000"/>
            <a:ext cx="863640" cy="259236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6227640" y="2276640"/>
            <a:ext cx="1584360" cy="792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5435640" y="2637000"/>
            <a:ext cx="720720" cy="2663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38CD-E8BB-428E-BB23-A2F4297087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ocument"/>
          <p:cNvSpPr/>
          <p:nvPr/>
        </p:nvSpPr>
        <p:spPr>
          <a:xfrm>
            <a:off x="2484360" y="692280"/>
            <a:ext cx="3888000" cy="1584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стоит из следующих разделов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24000" y="256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24000" y="328464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е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24000" y="400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еорганиз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324000" y="472428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зменение типа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24000" y="544500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Ликвид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324000" y="6165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(изменение) уставов федера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7AD6-A926-46EA-90AD-1E4614DF7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24000" y="2852640"/>
            <a:ext cx="3600360" cy="2808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созд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932360" y="2637000"/>
            <a:ext cx="3889440" cy="3671640"/>
          </a:xfrm>
          <a:prstGeom prst="wedgeRoundRectCallout">
            <a:avLst>
              <a:gd name="adj1" fmla="val -83305"/>
              <a:gd name="adj2" fmla="val 144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ект РП РФ о создании ФГУ по согласованию с Минфином России и МЭР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49A4-859B-407D-BC6A-9ADD08F6AE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9:58:06Z</dcterms:created>
  <dc:creator>admcto</dc:creator>
  <dc:description/>
  <dc:language>en-US</dc:language>
  <cp:lastModifiedBy>admcto</cp:lastModifiedBy>
  <dcterms:modified xsi:type="dcterms:W3CDTF">2010-06-22T11:40:20Z</dcterms:modified>
  <cp:revision>5</cp:revision>
  <dc:subject/>
  <dc:title>Порядок создания реорганизации, изменения типа и ликвидации ФГУ и порядок отнесения к категории особо ценного движимого имущества государственного (муниципального) бюджетного или автономного учреждения</dc:title>
</cp:coreProperties>
</file>